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1.jpeg" ContentType="image/jpeg"/>
  <Override PartName="/ppt/media/image8.jpeg" ContentType="image/jpeg"/>
  <Override PartName="/ppt/media/image13.jpeg" ContentType="image/jpeg"/>
  <Override PartName="/ppt/media/image9.jpeg" ContentType="image/jpe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sldImg"/>
          </p:nvPr>
        </p:nvSpPr>
        <p:spPr>
          <a:xfrm>
            <a:off x="1257120" y="720360"/>
            <a:ext cx="4800600" cy="3600360"/>
          </a:xfrm>
          <a:prstGeom prst="rect">
            <a:avLst/>
          </a:prstGeom>
          <a:noFill/>
          <a:ln w="12600">
            <a:solidFill>
              <a:srgbClr val="000000"/>
            </a:solidFill>
            <a:miter/>
          </a:ln>
        </p:spPr>
        <p:txBody>
          <a:bodyPr lIns="100440" rIns="100440" tIns="50400" bIns="50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3"/>
          <p:cNvSpPr>
            <a:spLocks noGrp="1"/>
          </p:cNvSpPr>
          <p:nvPr>
            <p:ph type="sldNum" idx="25"/>
          </p:nvPr>
        </p:nvSpPr>
        <p:spPr>
          <a:xfrm>
            <a:off x="3809520" y="8762760"/>
            <a:ext cx="317052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F2724DC9-27C4-42AC-8D6C-FFDF56DD905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37" name="Rectangle 6"/>
          <p:cNvSpPr/>
          <p:nvPr/>
        </p:nvSpPr>
        <p:spPr>
          <a:xfrm>
            <a:off x="588960" y="8931240"/>
            <a:ext cx="515952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Arial"/>
            </a:endParaRPr>
          </a:p>
        </p:txBody>
      </p:sp>
      <p:sp>
        <p:nvSpPr>
          <p:cNvPr id="538" name="Rectangle 2"/>
          <p:cNvSpPr/>
          <p:nvPr/>
        </p:nvSpPr>
        <p:spPr>
          <a:xfrm>
            <a:off x="574560" y="395280"/>
            <a:ext cx="558648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ítulo 3: </a:t>
            </a:r>
            <a:r>
              <a:rPr b="0" lang="es-ES" sz="1200" spc="-1" strike="noStrike">
                <a:solidFill>
                  <a:srgbClr val="000000"/>
                </a:solidFill>
                <a:latin typeface="Times New Roman"/>
              </a:rPr>
              <a:t>Muestreo de polvo con plomo usando un paño</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2072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Click to add text</a:t>
            </a:r>
            <a:endParaRPr b="0" lang="en-US" sz="1200" spc="-1" strike="noStrike">
              <a:solidFill>
                <a:srgbClr val="000000"/>
              </a:solidFill>
              <a:latin typeface="Calibri"/>
            </a:endParaRPr>
          </a:p>
        </p:txBody>
      </p:sp>
      <p:sp>
        <p:nvSpPr>
          <p:cNvPr id="63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5 Marcador de número de diapositiva"/>
          <p:cNvSpPr/>
          <p:nvPr/>
        </p:nvSpPr>
        <p:spPr>
          <a:xfrm>
            <a:off x="3672000" y="8748720"/>
            <a:ext cx="317016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1A30EAB1-A003-4326-BCFC-9D0A9CAA4A8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años de polvo con plomo desechables</a:t>
            </a:r>
            <a:r>
              <a:rPr b="0" lang="es-US" sz="1200" spc="-1" strike="noStrike">
                <a:solidFill>
                  <a:srgbClr val="000000"/>
                </a:solidFill>
                <a:latin typeface="Times New Roman"/>
                <a:ea typeface="Lucida Sans Unicode"/>
              </a:rPr>
              <a:t>. Use paños empacados individualmente (los laboratorios a menudo los proporcionan). Los paños deben cumplir con la norma ASTM E1792-03. No use paños que contengan áloe o lanolina.</a:t>
            </a:r>
            <a:r>
              <a:rPr b="1" lang="es-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Guantes desechables. </a:t>
            </a:r>
            <a:r>
              <a:rPr b="0" lang="es-US" sz="1200" spc="-1" strike="noStrike">
                <a:solidFill>
                  <a:srgbClr val="000000"/>
                </a:solidFill>
                <a:latin typeface="Times New Roman"/>
                <a:ea typeface="Lucida Sans Unicode"/>
              </a:rPr>
              <a:t>Los guantes deben ser desechables. Se recomiendan guantes sin esterilizar y sin polvo porque el polvo en los guantes puede contaminar la muestra (los laboratorios a menudo los proporcionan).</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Cubrezapatos desechables. </a:t>
            </a:r>
            <a:r>
              <a:rPr b="0" lang="es-US" sz="1200" spc="-1" strike="noStrike">
                <a:solidFill>
                  <a:srgbClr val="000000"/>
                </a:solidFill>
                <a:latin typeface="Times New Roman"/>
                <a:ea typeface="Lucida Sans Unicode"/>
              </a:rPr>
              <a:t>El uso de cubrezapatos desechables entre edificios y la retirada de cubrezapatos antes de entrar en un vehículo pueden ser útiles para minimizar la transferencia inadvertida de polvo depositado de un lugar a otro.</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Tubos centrífugos u otros recipientes plásticos duros que no sean de vidrio</a:t>
            </a:r>
            <a:r>
              <a:rPr b="0" lang="es-US" sz="1200" spc="-1" strike="noStrike">
                <a:solidFill>
                  <a:srgbClr val="000000"/>
                </a:solidFill>
                <a:latin typeface="Times New Roman"/>
                <a:ea typeface="Lucida Sans Unicode"/>
              </a:rPr>
              <a:t>. Deben ser tubos plásticos no esterilizados equipados con una tapa sellable.</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lantillas reutilizables. </a:t>
            </a:r>
            <a:r>
              <a:rPr b="0" lang="es-US" sz="1200" spc="-1" strike="noStrike">
                <a:solidFill>
                  <a:srgbClr val="000000"/>
                </a:solidFill>
                <a:latin typeface="Times New Roman"/>
                <a:ea typeface="Lucida Sans Unicode"/>
              </a:rPr>
              <a:t>Lo mejor es una plantilla de cartulina desechable </a:t>
            </a:r>
            <a:r>
              <a:rPr b="0" lang="es-US" sz="1200" spc="-1" strike="noStrike">
                <a:solidFill>
                  <a:srgbClr val="000000"/>
                </a:solidFill>
                <a:latin typeface="Times New Roman"/>
                <a:ea typeface="Times New Roman"/>
              </a:rPr>
              <a:t>o plástica reutilizable de 12”x12”. </a:t>
            </a: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inta adhesiva. </a:t>
            </a:r>
            <a:r>
              <a:rPr b="0" lang="es-US" sz="1200" spc="-1" strike="noStrike">
                <a:solidFill>
                  <a:srgbClr val="000000"/>
                </a:solidFill>
                <a:latin typeface="Times New Roman"/>
                <a:ea typeface="Times New Roman"/>
              </a:rPr>
              <a:t>La cinta de enmascarar o para pintores da buenos resultados. La cinta adhesiva se usa para fijar plantillas mientras se toman muestras de polvo y para delinear áreas de muestreo cuando no se disponga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Regla. </a:t>
            </a:r>
            <a:r>
              <a:rPr b="0" lang="es-US" sz="1200" spc="-1" strike="noStrike">
                <a:solidFill>
                  <a:srgbClr val="000000"/>
                </a:solidFill>
                <a:latin typeface="Times New Roman"/>
                <a:ea typeface="Times New Roman"/>
              </a:rPr>
              <a:t>Para medir áreas de muestreo si no se dispone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Formularios de recogida de muestras y formularios de cadena de custodia. </a:t>
            </a:r>
            <a:r>
              <a:rPr b="0" lang="es-US" sz="1200" spc="-1" strike="noStrike">
                <a:solidFill>
                  <a:srgbClr val="000000"/>
                </a:solidFill>
                <a:latin typeface="Times New Roman"/>
                <a:ea typeface="Times New Roman"/>
              </a:rPr>
              <a:t>Los laboratorios generalmente proporcionarán sus propios formular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rtículos de etiquetado y limpieza. </a:t>
            </a:r>
            <a:r>
              <a:rPr b="0" lang="es-US" sz="1200" spc="-1" strike="noStrike">
                <a:solidFill>
                  <a:srgbClr val="000000"/>
                </a:solidFill>
                <a:latin typeface="Times New Roman"/>
                <a:ea typeface="Times New Roman"/>
              </a:rPr>
              <a:t>Marcadores permanentes, bolsas para basura, etiquetas, bolsas de almacenamiento sellables y paños sanitarios para la cara y las manos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luma. </a:t>
            </a:r>
            <a:r>
              <a:rPr b="0" lang="es-US" sz="1200" spc="-1" strike="noStrike">
                <a:solidFill>
                  <a:srgbClr val="000000"/>
                </a:solidFill>
                <a:latin typeface="Times New Roman"/>
                <a:ea typeface="Times New Roman"/>
              </a:rPr>
              <a:t>Se debe usar una pluma para completar el formulario de recogida de muestras, etiquetar tubos y escribir no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alculadora. </a:t>
            </a:r>
            <a:r>
              <a:rPr b="0" lang="es-US" sz="1200" spc="-1" strike="noStrike">
                <a:solidFill>
                  <a:srgbClr val="000000"/>
                </a:solidFill>
                <a:latin typeface="Times New Roman"/>
                <a:ea typeface="Times New Roman"/>
              </a:rPr>
              <a:t>Se debe usar una calculadora para asistir en el cálculo de dimensiones de áreas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ños sanitarios. </a:t>
            </a:r>
            <a:r>
              <a:rPr b="0" lang="es-US" sz="1200" spc="-1" strike="noStrike">
                <a:solidFill>
                  <a:srgbClr val="000000"/>
                </a:solidFill>
                <a:latin typeface="Times New Roman"/>
                <a:ea typeface="Times New Roman"/>
              </a:rPr>
              <a:t>Deben usarse para la limpieza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456840" y="4320720"/>
            <a:ext cx="6553080" cy="4365720"/>
          </a:xfrm>
          <a:prstGeom prst="rect">
            <a:avLst/>
          </a:prstGeom>
          <a:noFill/>
          <a:ln w="0">
            <a:noFill/>
          </a:ln>
        </p:spPr>
        <p:txBody>
          <a:bodyPr lIns="96480" rIns="96480" tIns="48240" bIns="482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s muestras en blanco son paños nuevos sin usar que se envían al laboratorio para determinar si los medios de muestreo están contaminados proporcionando un paño “limpio” (que se supone que no contiene plomo) como comparación. Como se deben preparar muestras en blanco para cada trabajo, debe tener en cuenta los costos relacionados con estas muestras en su cuota. El envío de muestras en blanco es importante para probar la precisión de sus técnicas de muestreo, los medios de muestreo y el análisis de laboratori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Preparación de muestras en blanco.</a:t>
            </a:r>
            <a:r>
              <a:rPr b="0" lang="es-US" sz="900" spc="-1" strike="noStrike">
                <a:solidFill>
                  <a:srgbClr val="000000"/>
                </a:solidFill>
                <a:latin typeface="Times New Roman"/>
                <a:ea typeface="Times New Roman"/>
              </a:rPr>
              <a:t> Debe preparar muestras en blanco de la misma manera que otros paños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Prepare muestras en blanco al final de un trabajo – </a:t>
            </a:r>
            <a:r>
              <a:rPr b="0" lang="es-US" sz="900" spc="-1" strike="noStrike" u="sng">
                <a:solidFill>
                  <a:srgbClr val="000000"/>
                </a:solidFill>
                <a:uFillTx/>
                <a:latin typeface="Times New Roman"/>
                <a:ea typeface="Times New Roman"/>
              </a:rPr>
              <a:t>después</a:t>
            </a:r>
            <a:r>
              <a:rPr b="0" lang="es-US" sz="900" spc="-1" strike="noStrike">
                <a:solidFill>
                  <a:srgbClr val="000000"/>
                </a:solidFill>
                <a:latin typeface="Times New Roman"/>
                <a:ea typeface="Times New Roman"/>
              </a:rPr>
              <a:t> de recoger todas sus muestras de paños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Saque un nuevo paño del recipiente con un guante nuevo, sacuda el paño y vuélvalo a doblar como si estuviera tomando una muestra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Inserte el paño </a:t>
            </a:r>
            <a:r>
              <a:rPr b="0" lang="es-US" sz="900" spc="-1" strike="noStrike" u="sng">
                <a:solidFill>
                  <a:srgbClr val="000000"/>
                </a:solidFill>
                <a:uFillTx/>
                <a:latin typeface="Times New Roman"/>
                <a:ea typeface="Times New Roman"/>
              </a:rPr>
              <a:t>sin usar </a:t>
            </a:r>
            <a:r>
              <a:rPr b="0" lang="es-US" sz="900" spc="-1" strike="noStrike">
                <a:solidFill>
                  <a:srgbClr val="000000"/>
                </a:solidFill>
                <a:latin typeface="Times New Roman"/>
                <a:ea typeface="Times New Roman"/>
              </a:rPr>
              <a:t>en un recipiente de muestreo sin tocar ninguna superficie.</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Etiquetado y envío de muestras en blanco. </a:t>
            </a:r>
            <a:r>
              <a:rPr b="0" lang="es-US" sz="900" spc="-1" strike="noStrike">
                <a:solidFill>
                  <a:srgbClr val="000000"/>
                </a:solidFill>
                <a:latin typeface="Times New Roman"/>
                <a:ea typeface="Times New Roman"/>
              </a:rPr>
              <a:t>Las muestras en blanco deben etiquetarse para que pueda identificarlas, pero el laboratorio no puede. No etiquete muestras en blanco como “en blanc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Dé a la muestra un número ficticio que se parezca a sus otros números de muestras y proporcione al laboratorio un lugar de muestreo ficticio y medicione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Mantenga notas en sus registros identificando el número de muestras en blanc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Envíe una muestra en blanco por cada unidad muestreada. Además, se debe incluir una muestra en blanco de cada lote de paños usado para asegurarse de que los lotes no estén contaminados. El número de lote de paños se encuentra normalmente en el fondo del recipiente de paño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No se deben etiquetar muestras en blanco como tales debido a la posibilidad inevitable de sesgo de los analistas de laboratorio; es una mala práctica tener todas las muestras en blanco en la misma parte de las muestras de cada unidad (y cada lote de paños).</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Interpretación de las muestras en blanco. </a:t>
            </a:r>
            <a:r>
              <a:rPr b="0" lang="es-US" sz="900" spc="-1" strike="noStrike">
                <a:solidFill>
                  <a:srgbClr val="000000"/>
                </a:solidFill>
                <a:latin typeface="Times New Roman"/>
                <a:ea typeface="Times New Roman"/>
              </a:rPr>
              <a:t>Si el laboratorio detecta más de 10 µg/paño, se puede haber producido uno de tres errore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os paños de polvo estaban contaminados antes de usarlo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Ha contaminado los paños durante el muestreo; 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El laboratorio los ha contaminado durante el análisis.</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Si la muestra en blanco está contaminada, entonces no se deben usar los datos y habrá que muestrear otra vez la unidad en cuestión.</a:t>
            </a:r>
            <a:endParaRPr b="0" lang="en-US" sz="900" spc="-1" strike="noStrike">
              <a:solidFill>
                <a:srgbClr val="000000"/>
              </a:solidFill>
              <a:latin typeface="Calibri"/>
            </a:endParaRPr>
          </a:p>
        </p:txBody>
      </p:sp>
      <p:sp>
        <p:nvSpPr>
          <p:cNvPr id="670" name="Rectangle 7"/>
          <p:cNvSpPr/>
          <p:nvPr/>
        </p:nvSpPr>
        <p:spPr>
          <a:xfrm>
            <a:off x="4495680" y="8736120"/>
            <a:ext cx="2330640" cy="4777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a diapositiva presenta una visión general del proceso de recogida de muestras de polvo, que tiene siete pasos. Aquí se presenta cada uno de estos pasos y con más detalle, más adelante en esta capacit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1: Póngase cubrezapatos desechables y establezca el área de muestra. </a:t>
            </a:r>
            <a:r>
              <a:rPr b="0" lang="es-US" sz="1200" spc="-1" strike="noStrike">
                <a:solidFill>
                  <a:srgbClr val="000000"/>
                </a:solidFill>
                <a:latin typeface="Times New Roman"/>
                <a:ea typeface="Times New Roman"/>
              </a:rPr>
              <a:t>Delinee con cuidado el área que vaya a muestrear usando una plantilla o cinta adhesiv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 </a:t>
            </a:r>
            <a:r>
              <a:rPr b="0" lang="es-US" sz="1200" spc="-1" strike="noStrike">
                <a:solidFill>
                  <a:srgbClr val="000000"/>
                </a:solidFill>
                <a:latin typeface="Times New Roman"/>
                <a:ea typeface="Times New Roman"/>
              </a:rPr>
              <a:t>Etiquete los tubos y colóquelos parcialmente abiertos cerca del lugar que vaya a muestre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 </a:t>
            </a:r>
            <a:r>
              <a:rPr b="0" lang="es-US" sz="1200" spc="-1" strike="noStrike">
                <a:solidFill>
                  <a:srgbClr val="000000"/>
                </a:solidFill>
                <a:latin typeface="Times New Roman"/>
                <a:ea typeface="Times New Roman"/>
              </a:rPr>
              <a:t>Póngase guantes limpios antes de recoger </a:t>
            </a:r>
            <a:r>
              <a:rPr b="0" lang="es-US" sz="1200" spc="-1" strike="noStrike" u="sng">
                <a:solidFill>
                  <a:srgbClr val="000000"/>
                </a:solidFill>
                <a:uFillTx/>
                <a:latin typeface="Times New Roman"/>
                <a:ea typeface="Times New Roman"/>
              </a:rPr>
              <a:t>cada</a:t>
            </a:r>
            <a:r>
              <a:rPr b="0" lang="es-US" sz="1200" spc="-1" strike="noStrike">
                <a:solidFill>
                  <a:srgbClr val="000000"/>
                </a:solidFill>
                <a:latin typeface="Times New Roman"/>
                <a:ea typeface="Times New Roman"/>
              </a:rPr>
              <a:t> muestra. Esto ayuda a minimizar la contamin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ase un paño por el área de muestreo. </a:t>
            </a:r>
            <a:r>
              <a:rPr b="0" lang="es-US" sz="1200" spc="-1" strike="noStrike">
                <a:solidFill>
                  <a:srgbClr val="000000"/>
                </a:solidFill>
                <a:latin typeface="Times New Roman"/>
                <a:ea typeface="Times New Roman"/>
              </a:rPr>
              <a:t>Pase un paño por toda el área designada con un paño desechable para la muestra. Doble el paño y colóquelo en el tubo apropia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 </a:t>
            </a:r>
            <a:r>
              <a:rPr b="0" lang="es-US" sz="1200" spc="-1" strike="noStrike">
                <a:solidFill>
                  <a:srgbClr val="000000"/>
                </a:solidFill>
                <a:latin typeface="Times New Roman"/>
                <a:ea typeface="Times New Roman"/>
              </a:rPr>
              <a:t>Mida 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6: Anote el área de muestreo en los formularios.</a:t>
            </a:r>
            <a:r>
              <a:rPr b="0" lang="es-US" sz="1200" spc="-1" strike="noStrike">
                <a:solidFill>
                  <a:srgbClr val="000000"/>
                </a:solidFill>
                <a:latin typeface="Times New Roman"/>
                <a:ea typeface="Times New Roman"/>
              </a:rPr>
              <a:t> Anote la medida en los formularios de recogida de muestras y de cadena de custod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 </a:t>
            </a:r>
            <a:r>
              <a:rPr b="0" lang="es-US" sz="1200" spc="-1" strike="noStrike">
                <a:solidFill>
                  <a:srgbClr val="000000"/>
                </a:solidFill>
                <a:latin typeface="Times New Roman"/>
                <a:ea typeface="Times New Roman"/>
              </a:rPr>
              <a:t>Los materiales de muestreo deben limpiarse o quitarse del sitio porque pueden estar contaminad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20720"/>
            <a:ext cx="4800600" cy="3600360"/>
          </a:xfrm>
          <a:prstGeom prst="rect">
            <a:avLst/>
          </a:prstGeom>
          <a:ln w="0">
            <a:noFill/>
          </a:ln>
        </p:spPr>
      </p:sp>
      <p:sp>
        <p:nvSpPr>
          <p:cNvPr id="675" name="PlaceHolder 2"/>
          <p:cNvSpPr>
            <a:spLocks noGrp="1"/>
          </p:cNvSpPr>
          <p:nvPr>
            <p:ph type="body"/>
          </p:nvPr>
        </p:nvSpPr>
        <p:spPr>
          <a:xfrm>
            <a:off x="731880" y="4371480"/>
            <a:ext cx="5851440" cy="431964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Paso 1: Póngase cubrezapatos desechables y establezca el área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 siguiente describe cómo establecer el área de muestreo usando una plantilla. Siempre que sea posible, use una plantilla para evitar errores de medición. </a:t>
            </a:r>
            <a:r>
              <a:rPr b="1" lang="es-US" sz="1100" spc="-1" strike="noStrike">
                <a:solidFill>
                  <a:srgbClr val="000000"/>
                </a:solidFill>
                <a:latin typeface="Times New Roman"/>
                <a:ea typeface="Times New Roman"/>
              </a:rPr>
              <a:t>(*Asegúrese de limpiar la plantilla antes de seguir el protocolo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dimensiones de las plantillas variarán:</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piso debe tener una abertura de 144 pulgadas cuadradas o 1 pie cuadrado (12 pulgadas = 1 pie) o un área alternativa que tenga dimensiones conocidas de forma precisa. El pie cuadrado es la medición básica usada por la guía recomendada por la EPA para las pruebas de aprobación de polvo con plom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antepecho o del canal interior de la ventana debe tener una abertura de al menos 16 pulgadas cuadradas (aproximadamente 2” x 8”). Los antepechos interiores pueden variar de anch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egue con cinta adhesiva la plantilla a la superficie apropiada (piso, antepecho interior o canal interior) usando cinta adhesiva de enmascarar o para pintores. Tenga cuidado de no poner las manos en el área de muestreo, ya que esto podría quitar o añadir plomo y darle un resultado engaños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Si usa cinta adhesiva, asegúrese de que se ponga de forma recta de modo que se pueda determinar un área precisa para el tamaño de la muestra. Es muy difícil medir el área si la cinta adhesiva no se pone formando un cuadrado o un rectángul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No toque ni altere la superficie dentro del área de la muestra medida. Esto puede quitar o añadir polvo con plomo y darle un resultado engañoso. (Usted medirá el área exacta de la superficie de la muestra </a:t>
            </a:r>
            <a:r>
              <a:rPr b="0" lang="es-US" sz="1100" spc="-1" strike="noStrike" u="sng">
                <a:solidFill>
                  <a:srgbClr val="000000"/>
                </a:solidFill>
                <a:uFillTx/>
                <a:latin typeface="Times New Roman"/>
                <a:ea typeface="Times New Roman"/>
              </a:rPr>
              <a:t>después</a:t>
            </a:r>
            <a:r>
              <a:rPr b="0" lang="es-US" sz="1100" spc="-1" strike="noStrike">
                <a:solidFill>
                  <a:srgbClr val="000000"/>
                </a:solidFill>
                <a:latin typeface="Times New Roman"/>
                <a:ea typeface="Times New Roman"/>
              </a:rPr>
              <a:t> de recoger la muestra de polv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20720"/>
            <a:ext cx="4800600" cy="3600360"/>
          </a:xfrm>
          <a:prstGeom prst="rect">
            <a:avLst/>
          </a:prstGeom>
          <a:ln w="0">
            <a:noFill/>
          </a:ln>
        </p:spPr>
      </p:sp>
      <p:sp>
        <p:nvSpPr>
          <p:cNvPr id="6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se establece el área de muestreo cuando tenga una plantilla. Observe cómo está adherida al pis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limpiar plantillas reutilizables. </a:t>
            </a:r>
            <a:r>
              <a:rPr b="0" lang="es-US" sz="1200" spc="-1" strike="noStrike">
                <a:solidFill>
                  <a:srgbClr val="000000"/>
                </a:solidFill>
                <a:latin typeface="Times New Roman"/>
                <a:ea typeface="Times New Roman"/>
              </a:rPr>
              <a:t>Ponga cinta adhesiva en las esquinas a un ángulo de 45 grados en sentido opuesto a la esqui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no tocar el interior del área de muestreo.</a:t>
            </a:r>
            <a:endParaRPr b="0" lang="en-US" sz="1200" spc="-1" strike="noStrike">
              <a:solidFill>
                <a:srgbClr val="000000"/>
              </a:solidFill>
              <a:latin typeface="Calibri"/>
            </a:endParaRPr>
          </a:p>
        </p:txBody>
      </p:sp>
      <p:sp>
        <p:nvSpPr>
          <p:cNvPr id="67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usar cinta adhesiva para delinear el área de muestreo en un piso cuando no se disponga de plantilla. Asegúrese de que la cinta adhesiva se ponga perpendicular para garantizar que el área delineada sea tan parecida a un cuadrado perfecto como sea posible. Al hacer esto, se medirá el área de la muestra de forma más sencilla y precisa. </a:t>
            </a:r>
            <a:endParaRPr b="0" lang="en-US" sz="1200" spc="-1" strike="noStrike">
              <a:solidFill>
                <a:srgbClr val="000000"/>
              </a:solidFill>
              <a:latin typeface="Calibri"/>
            </a:endParaRPr>
          </a:p>
        </p:txBody>
      </p:sp>
      <p:sp>
        <p:nvSpPr>
          <p:cNvPr id="68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no se dispone de una plantilla para un antepecho o canal, establezca el área de muestreo con cinta adhesiva para pintores. Ponga la cinta adhesiva perpendicular al borde del antepecho o canal. El área de muestreo se calculará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tomar la muestra para no contaminar el áre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el antepecho o el canal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tienen cinta adhesiva, el ancho del área de muestreo varía de la parte delantera a la parte trasera cuando los extremos del antepecho o del canal no sean líneas rectas paralelas, de modo que el área de la muestra sea difícil de determin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el área de muestreo mida al menos 16 pulgadas cuadradas. Trate de tomar una muestra de al menos 8” de ancho del antepecho. </a:t>
            </a:r>
            <a:endParaRPr b="0" lang="en-US" sz="1200" spc="-1" strike="noStrike">
              <a:solidFill>
                <a:srgbClr val="000000"/>
              </a:solidFill>
              <a:latin typeface="Calibri"/>
            </a:endParaRPr>
          </a:p>
        </p:txBody>
      </p:sp>
      <p:sp>
        <p:nvSpPr>
          <p:cNvPr id="68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2072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tubos deben prepararse de modo que estén debidamente etiquetados y sean accesibles cuando estén listos para poner las muestras en ellos.</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Etiquete cada tubo con un número de identificación.</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Anote el número de identificación en los formularios de </a:t>
            </a:r>
            <a:r>
              <a:rPr b="0" lang="es-US" sz="1200" spc="-1" strike="noStrike">
                <a:solidFill>
                  <a:srgbClr val="000000"/>
                </a:solidFill>
                <a:latin typeface="Times New Roman"/>
                <a:ea typeface="Times New Roman"/>
              </a:rPr>
              <a:t>recogida de muestras y de cadena de custodi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Desenrosque parcialmente la tapa del tubo para asegurarse de que se pueda abrir fácilmente.</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Coloque el tubo cerca del área que vaya a muestrear. Esto evita la posible contaminación del paño y la pérdida de polvo muestreado entre el momento en que recoge la muestra y la coloca en el tub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Tal vez sea útil organizar los tubos en un portatubos de ensayo portátil.</a:t>
            </a:r>
            <a:endParaRPr b="0" lang="en-US" sz="1200" spc="-1" strike="noStrike">
              <a:solidFill>
                <a:srgbClr val="000000"/>
              </a:solidFill>
              <a:latin typeface="Calibri"/>
            </a:endParaRPr>
          </a:p>
          <a:p>
            <a:pPr lvl="1" marL="3697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20720"/>
            <a:ext cx="4800600" cy="3600360"/>
          </a:xfrm>
          <a:prstGeom prst="rect">
            <a:avLst/>
          </a:prstGeom>
          <a:ln w="0">
            <a:noFill/>
          </a:ln>
        </p:spPr>
      </p:sp>
      <p:sp>
        <p:nvSpPr>
          <p:cNvPr id="6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llevar guantes limpios se evita la transferencia de polvo con plomo de las manos al pañ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desechables.</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nuevos para cada muestra recogid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se ponga los guantes hasta que esté listo para tomar la muestra. Puede contaminar los guantes si toca otras superficies, como al medir el área de muestre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spués de ponerse los guantes, NO toque nada más antes de recoger el paño.</a:t>
            </a:r>
            <a:endParaRPr b="0" lang="en-US" sz="1200" spc="-1" strike="noStrike">
              <a:solidFill>
                <a:srgbClr val="000000"/>
              </a:solidFill>
              <a:latin typeface="Calibri"/>
            </a:endParaRPr>
          </a:p>
        </p:txBody>
      </p:sp>
      <p:sp>
        <p:nvSpPr>
          <p:cNvPr id="69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76160"/>
            <a:ext cx="4800600" cy="360072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toque otros objetos. Pueden contaminar el pañ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fuerza sobre el paño (con los dedos, no con la palma de la mano) en una esquina superior del área de muestre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tantos movimientos en “S” como sean necesarios de un lado a otro para pasar el paño por toda el área de muestreo. No se salga del límite exterior de la cinta adhesiva o plantilla.</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el paño por la mitad, manteniendo el lado sucio dentro, y repita el procedimiento para pasar el paño (movimiento en “S”). Esto ayuda a prevenir la pérdida del polvo recogido.</a:t>
            </a:r>
            <a:endParaRPr b="0" lang="en-US" sz="1200" spc="-1" strike="noStrike">
              <a:solidFill>
                <a:srgbClr val="000000"/>
              </a:solidFill>
              <a:latin typeface="Calibri"/>
            </a:endParaRPr>
          </a:p>
        </p:txBody>
      </p:sp>
      <p:sp>
        <p:nvSpPr>
          <p:cNvPr id="69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otra vez el paño por la mitad, manteniendo todo el polvo en el paño, y repita una vez más el procedimiento para pasar el paño, concentrándose en recoger el polvo de las esquinas dentro del área de la superficie seleccionada.</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paños se doblan para mantener el polvo recogido dentro del paño, evitar pérdidas de polvo y exponer una superficie limpia para pasar el paño a fin de efectuar una recogida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n-US" sz="1200" spc="-1" strike="noStrike">
                <a:solidFill>
                  <a:srgbClr val="000000"/>
                </a:solidFill>
                <a:latin typeface="Times New Roman"/>
                <a:ea typeface="Times New Roman"/>
              </a:rPr>
              <a:t>Guía práctica para el técnico en muestreo de polvo con plomo </a:t>
            </a:r>
            <a:r>
              <a:rPr b="1" i="1"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Evite el contacto con otras superficies. Los paños deben guardarse solamente en su recipiente original o en el tubo. No use bolsas plásticas ni otros objetos para guardar los paños. También se deben usar paños en blanco. A los paños en blanco se les debe asignar números y ubicaciones de muestras, de modo que en el laboratorio no se sepa que son paños en blanco. Solamente su copia del formulario de recogida de muestras debe identificar qué muestras son muestras en blanc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Tape el recipiente. Deseche los guantes en una bolsa para bas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20720"/>
            <a:ext cx="4800600" cy="3600360"/>
          </a:xfrm>
          <a:prstGeom prst="rect">
            <a:avLst/>
          </a:prstGeom>
          <a:ln w="0">
            <a:noFill/>
          </a:ln>
        </p:spPr>
      </p:sp>
      <p:sp>
        <p:nvSpPr>
          <p:cNvPr id="7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257480" y="720720"/>
            <a:ext cx="4800600" cy="3600360"/>
          </a:xfrm>
          <a:prstGeom prst="rect">
            <a:avLst/>
          </a:prstGeom>
          <a:ln w="0">
            <a:noFill/>
          </a:ln>
        </p:spPr>
      </p:sp>
      <p:sp>
        <p:nvSpPr>
          <p:cNvPr id="7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20720"/>
            <a:ext cx="4800600" cy="3600360"/>
          </a:xfrm>
          <a:prstGeom prst="rect">
            <a:avLst/>
          </a:prstGeom>
          <a:ln w="0">
            <a:noFill/>
          </a:ln>
        </p:spPr>
      </p:sp>
      <p:sp>
        <p:nvSpPr>
          <p:cNvPr id="71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Al mantener los dedos juntos a lo largo contra la superficie seleccionada, pase un paño por la superficie medida en un sentido en una sola pasada. Ejerza presión con los dedos al pasar un paño por la superficie. Esto evitará la sobrecarga del paño en la primera pasada.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el paño por la mitad con el lado de la muestra hacia dentro, y repita el procedimiento anterior de pasar el paño en ambos sentidos dentro de la superficie seleccionada en un lado del paño doblado.</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el paño por la mitad con el lado de la muestra hacia dentro, y repita una vez más el procedimiento para pasar el paño, concentrándose en recoger el polvo depositado de las esquinas dentro de la superficie seleccionada.</a:t>
            </a:r>
            <a:endParaRPr b="0" lang="en-US" sz="1100" spc="-1" strike="noStrike">
              <a:solidFill>
                <a:srgbClr val="000000"/>
              </a:solidFill>
              <a:latin typeface="Calibri"/>
            </a:endParaRPr>
          </a:p>
        </p:txBody>
      </p:sp>
      <p:sp>
        <p:nvSpPr>
          <p:cNvPr id="71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257480" y="720720"/>
            <a:ext cx="4800600" cy="3600360"/>
          </a:xfrm>
          <a:prstGeom prst="rect">
            <a:avLst/>
          </a:prstGeom>
          <a:ln w="0">
            <a:noFill/>
          </a:ln>
        </p:spPr>
      </p:sp>
      <p:sp>
        <p:nvSpPr>
          <p:cNvPr id="7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interior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nuevamente el paño con el lado de la muestra doblado hacia dentro, y ponga el paño doblado dentro del tubo de muestras y tápelo.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Etiquete el tubo con información suficiente para identificar exclusivamente la muestra.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Mida y anote las dimensiones del área de muestreo seleccionada (el área realmente limpiada durante la recogida de muestras). Deseche los guantes en una bolsa para basura. </a:t>
            </a:r>
            <a:endParaRPr b="0" lang="en-US" sz="1100" spc="-1" strike="noStrike">
              <a:solidFill>
                <a:srgbClr val="000000"/>
              </a:solidFill>
              <a:latin typeface="Calibri"/>
            </a:endParaRPr>
          </a:p>
        </p:txBody>
      </p:sp>
      <p:sp>
        <p:nvSpPr>
          <p:cNvPr id="71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7480" y="720720"/>
            <a:ext cx="4800600" cy="3600360"/>
          </a:xfrm>
          <a:prstGeom prst="rect">
            <a:avLst/>
          </a:prstGeom>
          <a:ln w="0">
            <a:noFill/>
          </a:ln>
        </p:spPr>
      </p:sp>
      <p:sp>
        <p:nvSpPr>
          <p:cNvPr id="6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año con polvo mide la cantidad total de plomo en una superficie específica. Esta medición se llama “carga” de plomo. La carga de plomo es un buen indicador de la cantidad de plomo a la que está expuesto un niño.</a:t>
            </a: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os paños con polvo miden el polvo con plomo en un cierto momento.</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pueden cambiar como la cantidad de polvo con plomo en los cambios de superficie.</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también pueden cambiar dependiendo de la actividad en la casa, incluidas las actividades que alteran la pintura a base de plomo y la frecuencia de limpieza.</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 medición indica cuánto plomo había cuando se recogió la muestra; </a:t>
            </a:r>
            <a:r>
              <a:rPr b="0" lang="es-US" sz="1200" spc="-1" strike="noStrike" u="sng">
                <a:solidFill>
                  <a:srgbClr val="000000"/>
                </a:solidFill>
                <a:uFillTx/>
                <a:latin typeface="Times New Roman"/>
                <a:ea typeface="Lucida Sans Unicode"/>
              </a:rPr>
              <a:t>no</a:t>
            </a:r>
            <a:r>
              <a:rPr b="0" lang="es-US" sz="1200" spc="-1" strike="noStrike">
                <a:solidFill>
                  <a:srgbClr val="000000"/>
                </a:solidFill>
                <a:latin typeface="Times New Roman"/>
                <a:ea typeface="Lucida Sans Unicode"/>
              </a:rPr>
              <a:t> indica nada sobre concentraciones de plomo pasadas ni futuras.</a:t>
            </a:r>
            <a:endParaRPr b="0" lang="en-US" sz="1200" spc="-1" strike="noStrike">
              <a:solidFill>
                <a:srgbClr val="000000"/>
              </a:solidFill>
              <a:latin typeface="Calibri"/>
            </a:endParaRPr>
          </a:p>
          <a:p>
            <a:pPr lvl="1" marL="501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57480" y="720720"/>
            <a:ext cx="4800600" cy="3600360"/>
          </a:xfrm>
          <a:prstGeom prst="rect">
            <a:avLst/>
          </a:prstGeom>
          <a:ln w="0">
            <a:noFill/>
          </a:ln>
        </p:spPr>
      </p:sp>
      <p:sp>
        <p:nvSpPr>
          <p:cNvPr id="7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Observe la forma en que el técnico de muestreo de polvo con plomo sujeta el paño y lo pasa por el antepecho de la ventan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20720"/>
            <a:ext cx="4800600" cy="3600360"/>
          </a:xfrm>
          <a:prstGeom prst="rect">
            <a:avLst/>
          </a:prstGeom>
          <a:ln w="0">
            <a:noFill/>
          </a:ln>
        </p:spPr>
      </p:sp>
      <p:sp>
        <p:nvSpPr>
          <p:cNvPr id="7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e es un ejemplo de cómo tomar una muestra de un canal de ventana. El canal no tiene cinta adhesiva porque su área mide menos de 16 pulgadas, por lo que debe tomar una muestra de todo el canal y determinar su área. Mida con cuidado y hacia abajo hasta 1/8 de pulgada. Asegúrese de que el canal de la ventana se haya limpiado de forma adecuada antes del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20720"/>
            <a:ext cx="4800600" cy="3600360"/>
          </a:xfrm>
          <a:prstGeom prst="rect">
            <a:avLst/>
          </a:prstGeom>
          <a:ln w="0">
            <a:noFill/>
          </a:ln>
        </p:spPr>
      </p:sp>
      <p:sp>
        <p:nvSpPr>
          <p:cNvPr id="72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se usó una plantilla, anote las dimensiones de la plantilla en el formulario de recogida del laboratorio. Si no se usó una plantilla, se debe medir el área de muestre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la longitud y el ancho exactos del área de muestreo con una cinta de medir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haber tomado la muestra de polvo. Esto le permite obtener una medición exacta sin contaminar el área de la muest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medir el área dentro de la cinta adhesiva, no fuera del límite extern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siempre hasta un octavo de pulgada (1/8”). La medición descuidada puede producir resultados inexac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20720"/>
            <a:ext cx="4800600" cy="3600360"/>
          </a:xfrm>
          <a:prstGeom prst="rect">
            <a:avLst/>
          </a:prstGeom>
          <a:ln w="0">
            <a:noFill/>
          </a:ln>
        </p:spPr>
      </p:sp>
      <p:sp>
        <p:nvSpPr>
          <p:cNvPr id="7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terminar de pasar el paño, mida el área por la que se ha pasado el paño, a menos que haya usado una plantilla y conozca ya las dimensiones.  Mida la longitud y el ancho del área por la que se ha pasado el p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Nota:</a:t>
            </a:r>
            <a:r>
              <a:rPr b="0" lang="es-US" sz="1200" spc="-1" strike="noStrike">
                <a:solidFill>
                  <a:srgbClr val="000000"/>
                </a:solidFill>
                <a:latin typeface="Times New Roman"/>
                <a:ea typeface="Times New Roman"/>
              </a:rPr>
              <a:t> La regla no tiene espacio adicional entre el lugar donde empiezan las mediciones y el borde de la regl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57480" y="720720"/>
            <a:ext cx="4800600" cy="3600360"/>
          </a:xfrm>
          <a:prstGeom prst="rect">
            <a:avLst/>
          </a:prstGeom>
          <a:ln w="0">
            <a:noFill/>
          </a:ln>
        </p:spPr>
      </p:sp>
      <p:sp>
        <p:nvSpPr>
          <p:cNvPr id="7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8432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Arial"/>
              </a:rPr>
              <a:t>Vea el </a:t>
            </a:r>
            <a:r>
              <a:rPr b="1" lang="es-US" sz="1100" spc="-1" strike="noStrike">
                <a:solidFill>
                  <a:srgbClr val="000000"/>
                </a:solidFill>
                <a:latin typeface="Arial"/>
                <a:ea typeface="Arial"/>
              </a:rPr>
              <a:t>Anexo 3-A: Formulario de recogida de muestras</a:t>
            </a:r>
            <a:r>
              <a:rPr b="0" lang="es-US" sz="1100" spc="-1" strike="noStrike">
                <a:solidFill>
                  <a:srgbClr val="000000"/>
                </a:solidFill>
                <a:latin typeface="Arial"/>
                <a:ea typeface="Arial"/>
              </a:rPr>
              <a:t> y el </a:t>
            </a:r>
            <a:r>
              <a:rPr b="1" lang="es-US" sz="1100" spc="-1" strike="noStrike">
                <a:solidFill>
                  <a:srgbClr val="000000"/>
                </a:solidFill>
                <a:latin typeface="Arial"/>
                <a:ea typeface="Arial"/>
              </a:rPr>
              <a:t>Anexo 3-B: Formulario de recogida de muestras completado.</a:t>
            </a:r>
            <a:endParaRPr b="0" lang="en-US" sz="1100" spc="-1" strike="noStrike">
              <a:solidFill>
                <a:srgbClr val="000000"/>
              </a:solidFill>
              <a:latin typeface="Calibri"/>
            </a:endParaRPr>
          </a:p>
          <a:p>
            <a:pPr marL="18432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Arial"/>
              </a:rPr>
              <a:t>Los instructores deben sacar el </a:t>
            </a:r>
            <a:r>
              <a:rPr b="1" lang="es-US" sz="1100" spc="-1" strike="noStrike">
                <a:solidFill>
                  <a:srgbClr val="000000"/>
                </a:solidFill>
                <a:latin typeface="Arial"/>
                <a:ea typeface="Arial"/>
              </a:rPr>
              <a:t>Anexo 3-C: Hoja de trabajo para realizar cálculos matemáticos de fracciones a decimales</a:t>
            </a:r>
            <a:r>
              <a:rPr b="0" lang="es-US" sz="1100" spc="-1" strike="noStrike">
                <a:solidFill>
                  <a:srgbClr val="000000"/>
                </a:solidFill>
                <a:latin typeface="Arial"/>
                <a:ea typeface="Arial"/>
              </a:rPr>
              <a:t> y repaso con la clase. Tal vez sea muy útil hacer unos pocos cálculos para la clase. </a:t>
            </a:r>
            <a:endParaRPr b="0" lang="en-US" sz="1100" spc="-1" strike="noStrike">
              <a:solidFill>
                <a:srgbClr val="000000"/>
              </a:solidFill>
              <a:latin typeface="Calibri"/>
            </a:endParaRPr>
          </a:p>
        </p:txBody>
      </p:sp>
      <p:sp>
        <p:nvSpPr>
          <p:cNvPr id="73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20720"/>
            <a:ext cx="4800600" cy="3600360"/>
          </a:xfrm>
          <a:prstGeom prst="rect">
            <a:avLst/>
          </a:prstGeom>
          <a:ln w="0">
            <a:noFill/>
          </a:ln>
        </p:spPr>
      </p:sp>
      <p:sp>
        <p:nvSpPr>
          <p:cNvPr id="7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 muestreo pueden estar contaminados y por lo tanto deben limpiarse o quitarse del siti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impie la plantilla con un paño de muestreo limpio y colóquela en una bolsa plástica resellable para guardar objetos. Esto descontamina la plantilla entre usos y ayuda a evitar la contaminación cuando no se use. Deseche el paño en la bolsa para basu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haber anotado el lugar y las dimensiones del área de la muestra antes de quitar la cinta adhesiv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Quítese los guantes, la cinta adhesiva y los cubrezapatos. Deséchelos en una bolsa para basu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ímpiese la cara y las manos con agua jabonosa templada. (Use paños sanitarios si no tiene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la </a:t>
            </a:r>
            <a:r>
              <a:rPr b="0" i="1" lang="es-US" sz="1200" spc="-1" strike="noStrike">
                <a:solidFill>
                  <a:srgbClr val="000000"/>
                </a:solidFill>
                <a:latin typeface="Times New Roman"/>
                <a:ea typeface="Times New Roman"/>
              </a:rPr>
              <a:t>Guía de campo para técnicos de muestreo de polvo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D: Lista de comprobación de paños de polvo con plomo, </a:t>
            </a:r>
            <a:r>
              <a:rPr b="0" lang="es-US" sz="1200" spc="-1" strike="noStrike">
                <a:solidFill>
                  <a:srgbClr val="000000"/>
                </a:solidFill>
                <a:latin typeface="Times New Roman"/>
                <a:ea typeface="Times New Roman"/>
              </a:rPr>
              <a:t>que resumen todos los pasos que se acaban de describi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20720"/>
            <a:ext cx="4800600" cy="3600360"/>
          </a:xfrm>
          <a:prstGeom prst="rect">
            <a:avLst/>
          </a:prstGeom>
          <a:ln w="0">
            <a:noFill/>
          </a:ln>
        </p:spPr>
      </p:sp>
      <p:sp>
        <p:nvSpPr>
          <p:cNvPr id="7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a:t>
            </a:r>
            <a:r>
              <a:rPr b="0" lang="es-US" sz="1200" spc="-1" strike="noStrike">
                <a:solidFill>
                  <a:srgbClr val="000000"/>
                </a:solidFill>
                <a:latin typeface="Times New Roman"/>
                <a:ea typeface="Times New Roman"/>
              </a:rPr>
              <a:t> Tome muestras en una variedad de superficies – antepechos y canales de ventanas, y pis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20720"/>
            <a:ext cx="4800600" cy="3600360"/>
          </a:xfrm>
          <a:prstGeom prst="rect">
            <a:avLst/>
          </a:prstGeom>
          <a:ln w="0">
            <a:noFill/>
          </a:ln>
        </p:spPr>
      </p:sp>
      <p:sp>
        <p:nvSpPr>
          <p:cNvPr id="741" name="PlaceHolder 2"/>
          <p:cNvSpPr>
            <a:spLocks noGrp="1"/>
          </p:cNvSpPr>
          <p:nvPr>
            <p:ph type="body"/>
          </p:nvPr>
        </p:nvSpPr>
        <p:spPr>
          <a:xfrm>
            <a:off x="630360" y="4334040"/>
            <a:ext cx="6054480" cy="43192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el técnico de muestreo de polvo con plomo comete cualquiera de los siguientes errores comunes, el técnico podría obtener resultados incorrec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Medición incorrecta. </a:t>
            </a:r>
            <a:r>
              <a:rPr b="0" lang="es-US" sz="1000" spc="-1" strike="noStrike">
                <a:solidFill>
                  <a:srgbClr val="000000"/>
                </a:solidFill>
                <a:latin typeface="Times New Roman"/>
                <a:ea typeface="Times New Roman"/>
              </a:rPr>
              <a:t>Los pequeños errores al leer la cinta de medir pueden producir resultados engañosos. Un error de media pulgada puede marcar la diferencia entre pasar o no pasar las normas de EPA/HUD para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año está contaminado. </a:t>
            </a:r>
            <a:r>
              <a:rPr b="0" lang="es-US" sz="1000" spc="-1" strike="noStrike">
                <a:solidFill>
                  <a:srgbClr val="000000"/>
                </a:solidFill>
                <a:latin typeface="Times New Roman"/>
                <a:ea typeface="Times New Roman"/>
              </a:rPr>
              <a:t>Es importante que el paño esté limpio antes de recoger la muestra y que no pierda polvo antes de poner el paño en el tubo. Entre las fuentes comunes de contaminación se incluyen las siguient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Contacto entre el paño y el piso o la ventana antes de ponerlo en el tub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ae al piso antes de pasarlo y no se consigue uno nuev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movimientos del paño se salen del contorno de la plantilla o área con cinta adhesiva, acumulando polvo o residuos adicional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oloca en el piso o en el antepecho interior mientras se desenrosca la tapa del tubo, acumulando polv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os guantes están contaminados.</a:t>
            </a:r>
            <a:r>
              <a:rPr b="0" lang="es-US" sz="1000" spc="-1" strike="noStrike">
                <a:solidFill>
                  <a:srgbClr val="000000"/>
                </a:solidFill>
                <a:latin typeface="Times New Roman"/>
                <a:ea typeface="Times New Roman"/>
              </a:rPr>
              <a:t> Los guantes pueden contaminar la muestra si no están limpio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se ponen demasiado pronto y usted toca otras superfici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no se cambian para cada muestra. Los guantes usados anteriormente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Área de muestreo alterada. </a:t>
            </a:r>
            <a:r>
              <a:rPr b="0" lang="es-US" sz="1000" spc="-1" strike="noStrike">
                <a:solidFill>
                  <a:srgbClr val="000000"/>
                </a:solidFill>
                <a:latin typeface="Times New Roman"/>
                <a:ea typeface="Times New Roman"/>
              </a:rPr>
              <a:t>La contaminación puede quitar o añadir polvo con plomo al área de muestreo antes de que pase un paño por el área. El técnico de muestreo de polvo con plomo debe seleccionar una nueva área de muestre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o la cinta de medir dentro del área de la muestra antes de pasar el pañ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dentro del área de la muestra mientras pone cinta adhesiva en el pis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eslice la plantilla a través del área de muestreo a medida que la pega con cinta adhesiva.</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se la plantilla que no se haya limpi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área de la muestra se anota de forma incorrecta. </a:t>
            </a:r>
            <a:r>
              <a:rPr b="0" lang="es-US" sz="1000" spc="-1" strike="noStrike">
                <a:solidFill>
                  <a:srgbClr val="000000"/>
                </a:solidFill>
                <a:latin typeface="Times New Roman"/>
                <a:ea typeface="Times New Roman"/>
              </a:rPr>
              <a:t>Para evitar error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note las mediciones para antepechos y canales interiores inmediatamente </a:t>
            </a:r>
            <a:r>
              <a:rPr b="0"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medir el área.</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Revise los formularios antes de enviarlos para verificar </a:t>
            </a:r>
            <a:r>
              <a:rPr b="0" lang="es-US" sz="1000" spc="-1" strike="noStrike">
                <a:solidFill>
                  <a:srgbClr val="000000"/>
                </a:solidFill>
                <a:latin typeface="Times New Roman"/>
                <a:ea typeface="Lucida Sans Unicode"/>
              </a:rPr>
              <a:t>las mediciones.</a:t>
            </a:r>
            <a:endParaRPr b="0" lang="en-US" sz="1000" spc="-1" strike="noStrike">
              <a:solidFill>
                <a:srgbClr val="000000"/>
              </a:solidFill>
              <a:latin typeface="Calibri"/>
            </a:endParaRPr>
          </a:p>
          <a:p>
            <a:pPr lvl="1" marL="307800" indent="0">
              <a:lnSpc>
                <a:spcPts val="118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07800" indent="0">
              <a:lnSpc>
                <a:spcPts val="118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4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20720"/>
            <a:ext cx="4800600" cy="3600360"/>
          </a:xfrm>
          <a:prstGeom prst="rect">
            <a:avLst/>
          </a:prstGeom>
          <a:ln w="0">
            <a:noFill/>
          </a:ln>
        </p:spPr>
      </p:sp>
      <p:sp>
        <p:nvSpPr>
          <p:cNvPr id="7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permite muestras compuestas durante las pruebas de aprobación de polvo con plomo. Puede recibir una solicitud para tomar una muestra compuesta durante las pruebas de aprobación de polvo con plomo. El HUD se opone al muestreo compuesto para la aprobación. Los laboratorios analíticos con frecuencia tienen dificultades para procesar muestras compuestas. Póngase en contacto con su laboratorio antes de tomar muestras compues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es una muestra que contiene hasta cuatro paños de polvo en un recipiente. Cada paño se llama muestra secundar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indica la cantidad promedio de polvo con plomo en todas las áreas de muestreo. Esto proporciona una medida de exposición promedio. Es necesario recoger muestras secundarias de </a:t>
            </a:r>
            <a:r>
              <a:rPr b="0" lang="es-US" sz="1200" spc="-1" strike="noStrike" u="sng">
                <a:solidFill>
                  <a:srgbClr val="000000"/>
                </a:solidFill>
                <a:uFillTx/>
                <a:latin typeface="Times New Roman"/>
                <a:ea typeface="Times New Roman"/>
              </a:rPr>
              <a:t>áreas de igual tamaño</a:t>
            </a:r>
            <a:r>
              <a:rPr b="0" lang="es-US" sz="1200" spc="-1" strike="noStrike">
                <a:solidFill>
                  <a:srgbClr val="000000"/>
                </a:solidFill>
                <a:latin typeface="Times New Roman"/>
                <a:ea typeface="Times New Roman"/>
              </a:rPr>
              <a:t> para que los resultados sean un promed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diferencia de las muestras de paños individuales, las muestras compuestas no definen el lugar del polvo con plomo, si existe. En vez de eso, simplemente identifican que existe polvo con plomo </a:t>
            </a:r>
            <a:r>
              <a:rPr b="0" lang="es-US" sz="1200" spc="-1" strike="noStrike" u="sng">
                <a:solidFill>
                  <a:srgbClr val="000000"/>
                </a:solidFill>
                <a:uFillTx/>
                <a:latin typeface="Times New Roman"/>
                <a:ea typeface="Times New Roman"/>
              </a:rPr>
              <a:t>en algún lugar</a:t>
            </a:r>
            <a:r>
              <a:rPr b="0" lang="es-US" sz="1200" spc="-1" strike="noStrike">
                <a:solidFill>
                  <a:srgbClr val="000000"/>
                </a:solidFill>
                <a:latin typeface="Times New Roman"/>
                <a:ea typeface="Times New Roman"/>
              </a:rPr>
              <a:t> d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20720"/>
            <a:ext cx="4800600" cy="3600360"/>
          </a:xfrm>
          <a:prstGeom prst="rect">
            <a:avLst/>
          </a:prstGeom>
          <a:ln w="0">
            <a:noFill/>
          </a:ln>
        </p:spPr>
      </p:sp>
      <p:sp>
        <p:nvSpPr>
          <p:cNvPr id="7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las áreas muestreadas de cada muestra secundaria sean del mismo tamaño. Si incluye paños con polvo recogido de áreas de tamaños variables, no podrá obtener una lectura exacta de los niveles promedio. Esto no debe ser un problema si se usan plantillas.</a:t>
            </a:r>
            <a:endParaRPr b="0" lang="en-US" sz="1200" spc="-1" strike="noStrike">
              <a:solidFill>
                <a:srgbClr val="000000"/>
              </a:solidFill>
              <a:latin typeface="Calibri"/>
            </a:endParaRPr>
          </a:p>
          <a:p>
            <a:pPr lvl="1" marL="712800" indent="-23652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isos. </a:t>
            </a:r>
            <a:r>
              <a:rPr b="0" lang="es-US" sz="1200" spc="-1" strike="noStrike">
                <a:solidFill>
                  <a:srgbClr val="000000"/>
                </a:solidFill>
                <a:latin typeface="Times New Roman"/>
                <a:ea typeface="Times New Roman"/>
              </a:rPr>
              <a:t>Use un área de muestreo de 12” x 12”. Use una plantilla o un contorno de cinta adhesiva.</a:t>
            </a:r>
            <a:endParaRPr b="0" lang="en-US" sz="1200" spc="-1" strike="noStrike">
              <a:solidFill>
                <a:srgbClr val="000000"/>
              </a:solidFill>
              <a:latin typeface="Calibri"/>
            </a:endParaRPr>
          </a:p>
          <a:p>
            <a:pPr lvl="1" marL="712800" indent="-23652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ntepechos y canales de ventana interiores. </a:t>
            </a:r>
            <a:r>
              <a:rPr b="0" lang="es-US" sz="1200" spc="-1" strike="noStrike">
                <a:solidFill>
                  <a:srgbClr val="000000"/>
                </a:solidFill>
                <a:latin typeface="Times New Roman"/>
                <a:ea typeface="Times New Roman"/>
              </a:rPr>
              <a:t>Identifique el antepecho y/o el canal de ventana interior más pequeño que piense muestrear. Mida la longitud y el ancho después de poner la plantilla o la cinta adhesiva y tome una muestra de polvo. Use estas mediciones para delinear la misma área de muestreo para todos los antepechos y/o canales interiores. Esto garantizará que todos los antepechos o canales interiores muestreados sean del mismo tam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combine muestras secundarias de distintas unidades. Una muestra compuesta solamente puede incluir paños de polvo de una sola unidad. No use más de cuatro paños en una muestra compuesta. Es difícil para los laboratorios analizar muestras compuestas que contengan más de cuatro paños. Compruebe que su laboratorio tenga experiencia en el análisis de paños compuestos. </a:t>
            </a:r>
            <a:endParaRPr b="0" lang="en-US" sz="1200" spc="-1" strike="noStrike">
              <a:solidFill>
                <a:srgbClr val="000000"/>
              </a:solidFill>
              <a:latin typeface="Calibri"/>
            </a:endParaRPr>
          </a:p>
        </p:txBody>
      </p:sp>
      <p:sp>
        <p:nvSpPr>
          <p:cNvPr id="74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20720"/>
            <a:ext cx="4800600" cy="3600360"/>
          </a:xfrm>
          <a:prstGeom prst="rect">
            <a:avLst/>
          </a:prstGeom>
          <a:ln w="0">
            <a:noFill/>
          </a:ln>
        </p:spPr>
      </p:sp>
      <p:sp>
        <p:nvSpPr>
          <p:cNvPr id="6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Debe esperar un mínimo de 1 hora después de completar la limpieza final antes de recoger las muestras de paños con polvo. Esto deja tiempo para que se deposite el polvo del aire sobre las superficies.</a:t>
            </a:r>
            <a:endParaRPr b="0" lang="en-US" sz="1200" spc="-1" strike="noStrike">
              <a:solidFill>
                <a:srgbClr val="000000"/>
              </a:solidFill>
              <a:latin typeface="Calibri"/>
            </a:endParaRPr>
          </a:p>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endParaRPr b="0" lang="en-US" sz="1200" spc="-1" strike="noStrike">
              <a:solidFill>
                <a:srgbClr val="000000"/>
              </a:solidFill>
              <a:latin typeface="Calibri"/>
            </a:endParaRPr>
          </a:p>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Las muestras de paños con polvo de una sola superficie contienen un paño de una superfici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con plomo de una superficie específica, como un piso o un antepecho de ventana interior.</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total en la superfici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indican las concentraciones de plomo en el polvo en otros lugares de la misma superficie. Las concentraciones de plomo en el polvo pueden variar sustancialment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Al planificar una estrategia de muestreo, considere su esquema de numeración de muestras y prepárese para el número de muestras que espera tomar. Trate de capturar los lugares de muestreo cerca de las tareas de generación de polvo que se produjeron durante el trabajo. </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endParaRPr b="0" lang="en-US" sz="1200" spc="-1" strike="noStrike">
              <a:solidFill>
                <a:srgbClr val="000000"/>
              </a:solidFill>
              <a:latin typeface="Calibri"/>
            </a:endParaRPr>
          </a:p>
        </p:txBody>
      </p:sp>
      <p:sp>
        <p:nvSpPr>
          <p:cNvPr id="643" name="Rectangle 7"/>
          <p:cNvSpPr/>
          <p:nvPr/>
        </p:nvSpPr>
        <p:spPr>
          <a:xfrm>
            <a:off x="4533840" y="8742240"/>
            <a:ext cx="23306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20720"/>
            <a:ext cx="4800600" cy="3600360"/>
          </a:xfrm>
          <a:prstGeom prst="rect">
            <a:avLst/>
          </a:prstGeom>
          <a:ln w="0">
            <a:noFill/>
          </a:ln>
        </p:spPr>
      </p:sp>
      <p:sp>
        <p:nvSpPr>
          <p:cNvPr id="7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iempre que sea posible, use una plantilla al recoger muestras compuestas. Si no se dispone de una plantilla, describa las áreas que piensa limpiar con un paño antes de recoger las muestras secundarias. Recuerde que el tamaño de la muestra debe ser igual para todas las muestras secundarias incluidas en una muestra compuesta.</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Use un paño separado para cada muestra secundaria que se limpie.</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iga los procedimientos de muestreo para paños individuales.</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e puede usar un conjunto de guantes para todas las muestras secundarias en la muestra compuesta. No obstante, si el guante toca un área fuera del área de muestreo, póngase uno nuevo.</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Después de pasar un paño por cada área de muestras secundarias, coloque con cuidado el paño en el tubo.</a:t>
            </a:r>
            <a:endParaRPr b="0" lang="en-US" sz="1100" spc="-1" strike="noStrike">
              <a:solidFill>
                <a:srgbClr val="000000"/>
              </a:solidFill>
              <a:latin typeface="Calibri"/>
            </a:endParaRPr>
          </a:p>
          <a:p>
            <a:pPr marL="474840" indent="0">
              <a:lnSpc>
                <a:spcPct val="100000"/>
              </a:lnSpc>
              <a:spcBef>
                <a:spcPts val="41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1100" spc="-1" strike="noStrike">
              <a:solidFill>
                <a:srgbClr val="000000"/>
              </a:solidFill>
              <a:latin typeface="Calibri"/>
            </a:endParaRPr>
          </a:p>
        </p:txBody>
      </p:sp>
      <p:sp>
        <p:nvSpPr>
          <p:cNvPr id="75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20720"/>
            <a:ext cx="4800600" cy="3600360"/>
          </a:xfrm>
          <a:prstGeom prst="rect">
            <a:avLst/>
          </a:prstGeom>
          <a:ln w="0">
            <a:noFill/>
          </a:ln>
        </p:spPr>
      </p:sp>
      <p:sp>
        <p:nvSpPr>
          <p:cNvPr id="7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2072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nque la verificación de limpieza no se efectúa en pisos alfombrados, sí se hace en el muestreo de aprobación de polvo. Las LDST no deben evitar el muestreo de pisos alfombrado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el área de trabajo incluye más de 4 habitaciones, pasillos o escaleras, solamente se deben tomar 4. Se debe recoger una muestra de antepecho de ventana y una muestra de piso de cada una de 4 habitaciones, pasillos o escaleras dentro del área de trabaj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regla de RRP requiere que se limpien todos los objetos y las superficies, incluidos pisos, a 2 pies como máximo del área de trabajo después de haber completado el trabajo. Las muestras del piso que sea necesario recoger fuera del área de trabajo deben recogerse fuera del área limpiada que rodea el área de trabaj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siguientes diapositivas sobre muestreo se aplican también al HUD.</a:t>
            </a:r>
            <a:endParaRPr b="0" lang="en-US" sz="1200" spc="-1" strike="noStrike">
              <a:solidFill>
                <a:srgbClr val="000000"/>
              </a:solidFill>
              <a:latin typeface="Calibri"/>
            </a:endParaRPr>
          </a:p>
        </p:txBody>
      </p:sp>
      <p:sp>
        <p:nvSpPr>
          <p:cNvPr id="64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HUD tiene diferentes requisitos que la EPA para la aprobación.  Aunque el protocolo de aprobación posterior a la renovación de la EPA es similar al protocolo permitido por el HUD para la aprobación en la obra solamente, el HUD dispone de requisitos adicionales para usar esta estrategia de muestreo. Aunque los requisitos de muestreo son muy importantes para las actividades de renovación financiadas federalmente, estas unidades representarán un porcentaje relativamente pequeño de todos los proyectos de renovación llevados a cabo en todo el país.  Debido a que la mayoría de los trabajos de renovación que se espera que tengan lugar en las viviendas de EE.UU. </a:t>
            </a:r>
            <a:r>
              <a:rPr b="0" lang="es-ES" sz="1200" spc="-1" strike="noStrike" u="sng">
                <a:solidFill>
                  <a:srgbClr val="000000"/>
                </a:solidFill>
                <a:uFillTx/>
                <a:latin typeface="Times New Roman"/>
                <a:ea typeface="Times New Roman"/>
              </a:rPr>
              <a:t>no</a:t>
            </a:r>
            <a:r>
              <a:rPr b="0" lang="es-ES" sz="1200" spc="-1" strike="noStrike">
                <a:solidFill>
                  <a:srgbClr val="000000"/>
                </a:solidFill>
                <a:latin typeface="Times New Roman"/>
                <a:ea typeface="Times New Roman"/>
              </a:rPr>
              <a:t> será financiada con ayuda federal, se proporcionan detalles de muestreo del HUD adjuntos al plan de estudio en el ejercicio de muestreo opcional para trabajos financiados por el HUD y en el apéndice de muestreo del HUD.  Todos los técnicos de muestreo de polvo con plomo deben tratar los planes de muestreo con el renovador antes de que empiece el trabajo; prestando atención especial a si el proyecto recibe asistencia de vivienda federal, de modo que pueda usarse la estrategia de muestreo apropiada para cumplir con las Prácticas Seguras para Trabajar con el Plomo.</a:t>
            </a:r>
            <a:endParaRPr b="0" lang="en-US" sz="1200" spc="-1" strike="noStrike">
              <a:solidFill>
                <a:srgbClr val="000000"/>
              </a:solidFill>
              <a:latin typeface="Calibri"/>
            </a:endParaRPr>
          </a:p>
        </p:txBody>
      </p:sp>
      <p:sp>
        <p:nvSpPr>
          <p:cNvPr id="65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5 Marcador de número de diapositiva"/>
          <p:cNvSpPr/>
          <p:nvPr/>
        </p:nvSpPr>
        <p:spPr>
          <a:xfrm>
            <a:off x="3657600" y="8736120"/>
            <a:ext cx="317016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48F7A150-9E57-4BBA-9D28-0409DDB9D39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11" descr="HUD 2.JPG"/>
          <p:cNvPicPr/>
          <p:nvPr/>
        </p:nvPicPr>
        <p:blipFill>
          <a:blip r:embed="rId2"/>
          <a:stretch/>
        </p:blipFill>
        <p:spPr>
          <a:xfrm>
            <a:off x="7620120" y="5715000"/>
            <a:ext cx="914400" cy="914400"/>
          </a:xfrm>
          <a:prstGeom prst="rect">
            <a:avLst/>
          </a:prstGeom>
          <a:ln w="0">
            <a:noFill/>
          </a:ln>
        </p:spPr>
      </p:pic>
      <p:pic>
        <p:nvPicPr>
          <p:cNvPr id="403" name="Picture 12" descr="EPA.JPG"/>
          <p:cNvPicPr/>
          <p:nvPr/>
        </p:nvPicPr>
        <p:blipFill>
          <a:blip r:embed="rId3"/>
          <a:stretch/>
        </p:blipFill>
        <p:spPr>
          <a:xfrm>
            <a:off x="685800" y="5943600"/>
            <a:ext cx="1270080" cy="380880"/>
          </a:xfrm>
          <a:prstGeom prst="rect">
            <a:avLst/>
          </a:prstGeom>
          <a:ln w="0">
            <a:noFill/>
          </a:ln>
        </p:spPr>
      </p:pic>
      <p:sp>
        <p:nvSpPr>
          <p:cNvPr id="40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B603B4F-4B25-4C10-B1C2-0FA4C8BD82E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1" descr="HUD 2.JPG"/>
          <p:cNvPicPr/>
          <p:nvPr/>
        </p:nvPicPr>
        <p:blipFill>
          <a:blip r:embed="rId2"/>
          <a:stretch/>
        </p:blipFill>
        <p:spPr>
          <a:xfrm>
            <a:off x="7620120" y="5715000"/>
            <a:ext cx="914400" cy="914400"/>
          </a:xfrm>
          <a:prstGeom prst="rect">
            <a:avLst/>
          </a:prstGeom>
          <a:ln w="0">
            <a:noFill/>
          </a:ln>
        </p:spPr>
      </p:pic>
      <p:pic>
        <p:nvPicPr>
          <p:cNvPr id="447" name="Picture 12" descr="EPA.JPG"/>
          <p:cNvPicPr/>
          <p:nvPr/>
        </p:nvPicPr>
        <p:blipFill>
          <a:blip r:embed="rId3"/>
          <a:stretch/>
        </p:blipFill>
        <p:spPr>
          <a:xfrm>
            <a:off x="685800" y="5943600"/>
            <a:ext cx="1270080" cy="380880"/>
          </a:xfrm>
          <a:prstGeom prst="rect">
            <a:avLst/>
          </a:prstGeom>
          <a:ln w="0">
            <a:noFill/>
          </a:ln>
        </p:spPr>
      </p:pic>
      <p:sp>
        <p:nvSpPr>
          <p:cNvPr id="44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79DEBC96-3EA5-49B5-901B-B35BC2F1A34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2"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11" descr="HUD 2.JPG"/>
          <p:cNvPicPr/>
          <p:nvPr/>
        </p:nvPicPr>
        <p:blipFill>
          <a:blip r:embed="rId2"/>
          <a:stretch/>
        </p:blipFill>
        <p:spPr>
          <a:xfrm>
            <a:off x="7620120" y="5715000"/>
            <a:ext cx="914400" cy="914400"/>
          </a:xfrm>
          <a:prstGeom prst="rect">
            <a:avLst/>
          </a:prstGeom>
          <a:ln w="0">
            <a:noFill/>
          </a:ln>
        </p:spPr>
      </p:pic>
      <p:pic>
        <p:nvPicPr>
          <p:cNvPr id="491" name="Picture 12" descr="EPA.JPG"/>
          <p:cNvPicPr/>
          <p:nvPr/>
        </p:nvPicPr>
        <p:blipFill>
          <a:blip r:embed="rId3"/>
          <a:stretch/>
        </p:blipFill>
        <p:spPr>
          <a:xfrm>
            <a:off x="685800" y="5943600"/>
            <a:ext cx="1270080" cy="380880"/>
          </a:xfrm>
          <a:prstGeom prst="rect">
            <a:avLst/>
          </a:prstGeom>
          <a:ln w="0">
            <a:noFill/>
          </a:ln>
        </p:spPr>
      </p:pic>
      <p:sp>
        <p:nvSpPr>
          <p:cNvPr id="49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B85EB4F-83D3-4844-A95D-80D138DA757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72836995-AF03-41D7-A031-91E8DDDDE81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0"/>
          <p:cNvSpPr/>
          <p:nvPr/>
        </p:nvSpPr>
        <p:spPr>
          <a:xfrm>
            <a:off x="169848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7BE2FAF9-F14C-499D-8F97-BB2A603F519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1" descr="HUD 2.JPG"/>
          <p:cNvPicPr/>
          <p:nvPr/>
        </p:nvPicPr>
        <p:blipFill>
          <a:blip r:embed="rId2"/>
          <a:stretch/>
        </p:blipFill>
        <p:spPr>
          <a:xfrm>
            <a:off x="7620120" y="5715000"/>
            <a:ext cx="914400" cy="914400"/>
          </a:xfrm>
          <a:prstGeom prst="rect">
            <a:avLst/>
          </a:prstGeom>
          <a:ln w="0">
            <a:noFill/>
          </a:ln>
        </p:spPr>
      </p:pic>
      <p:pic>
        <p:nvPicPr>
          <p:cNvPr id="137" name="Picture 12" descr="EPA.JPG"/>
          <p:cNvPicPr/>
          <p:nvPr/>
        </p:nvPicPr>
        <p:blipFill>
          <a:blip r:embed="rId3"/>
          <a:stretch/>
        </p:blipFill>
        <p:spPr>
          <a:xfrm>
            <a:off x="685800" y="5943600"/>
            <a:ext cx="1270080" cy="380880"/>
          </a:xfrm>
          <a:prstGeom prst="rect">
            <a:avLst/>
          </a:prstGeom>
          <a:ln w="0">
            <a:noFill/>
          </a:ln>
        </p:spPr>
      </p:pic>
      <p:sp>
        <p:nvSpPr>
          <p:cNvPr id="13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29104D77-277E-45F7-8B6A-3D1E1015731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1" descr="HUD 2.JPG"/>
          <p:cNvPicPr/>
          <p:nvPr/>
        </p:nvPicPr>
        <p:blipFill>
          <a:blip r:embed="rId2"/>
          <a:stretch/>
        </p:blipFill>
        <p:spPr>
          <a:xfrm>
            <a:off x="7620120" y="5715000"/>
            <a:ext cx="914400" cy="914400"/>
          </a:xfrm>
          <a:prstGeom prst="rect">
            <a:avLst/>
          </a:prstGeom>
          <a:ln w="0">
            <a:noFill/>
          </a:ln>
        </p:spPr>
      </p:pic>
      <p:pic>
        <p:nvPicPr>
          <p:cNvPr id="181" name="Picture 12" descr="EPA.JPG"/>
          <p:cNvPicPr/>
          <p:nvPr/>
        </p:nvPicPr>
        <p:blipFill>
          <a:blip r:embed="rId3"/>
          <a:stretch/>
        </p:blipFill>
        <p:spPr>
          <a:xfrm>
            <a:off x="685800" y="5943600"/>
            <a:ext cx="1270080" cy="380880"/>
          </a:xfrm>
          <a:prstGeom prst="rect">
            <a:avLst/>
          </a:prstGeom>
          <a:ln w="0">
            <a:noFill/>
          </a:ln>
        </p:spPr>
      </p:pic>
      <p:sp>
        <p:nvSpPr>
          <p:cNvPr id="18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F9577BBB-CA6A-449D-9762-143C1670249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1" descr="HUD 2.JPG"/>
          <p:cNvPicPr/>
          <p:nvPr/>
        </p:nvPicPr>
        <p:blipFill>
          <a:blip r:embed="rId2"/>
          <a:stretch/>
        </p:blipFill>
        <p:spPr>
          <a:xfrm>
            <a:off x="7620120" y="5715000"/>
            <a:ext cx="914400" cy="914400"/>
          </a:xfrm>
          <a:prstGeom prst="rect">
            <a:avLst/>
          </a:prstGeom>
          <a:ln w="0">
            <a:noFill/>
          </a:ln>
        </p:spPr>
      </p:pic>
      <p:pic>
        <p:nvPicPr>
          <p:cNvPr id="225" name="Picture 12" descr="EPA.JPG"/>
          <p:cNvPicPr/>
          <p:nvPr/>
        </p:nvPicPr>
        <p:blipFill>
          <a:blip r:embed="rId3"/>
          <a:stretch/>
        </p:blipFill>
        <p:spPr>
          <a:xfrm>
            <a:off x="685800" y="5943600"/>
            <a:ext cx="1270080" cy="380880"/>
          </a:xfrm>
          <a:prstGeom prst="rect">
            <a:avLst/>
          </a:prstGeom>
          <a:ln w="0">
            <a:noFill/>
          </a:ln>
        </p:spPr>
      </p:pic>
      <p:sp>
        <p:nvSpPr>
          <p:cNvPr id="226"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78A38E9-2970-4178-AD0F-9EA3F90C833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1" descr="HUD 2.JPG"/>
          <p:cNvPicPr/>
          <p:nvPr/>
        </p:nvPicPr>
        <p:blipFill>
          <a:blip r:embed="rId2"/>
          <a:stretch/>
        </p:blipFill>
        <p:spPr>
          <a:xfrm>
            <a:off x="7620120" y="5715000"/>
            <a:ext cx="914400" cy="914400"/>
          </a:xfrm>
          <a:prstGeom prst="rect">
            <a:avLst/>
          </a:prstGeom>
          <a:ln w="0">
            <a:noFill/>
          </a:ln>
        </p:spPr>
      </p:pic>
      <p:pic>
        <p:nvPicPr>
          <p:cNvPr id="269" name="Picture 12" descr="EPA.JPG"/>
          <p:cNvPicPr/>
          <p:nvPr/>
        </p:nvPicPr>
        <p:blipFill>
          <a:blip r:embed="rId3"/>
          <a:stretch/>
        </p:blipFill>
        <p:spPr>
          <a:xfrm>
            <a:off x="685800" y="5943600"/>
            <a:ext cx="1270080" cy="380880"/>
          </a:xfrm>
          <a:prstGeom prst="rect">
            <a:avLst/>
          </a:prstGeom>
          <a:ln w="0">
            <a:noFill/>
          </a:ln>
        </p:spPr>
      </p:pic>
      <p:sp>
        <p:nvSpPr>
          <p:cNvPr id="270"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83ACF18-7D7C-434A-A6E1-27429B78C64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0"/>
          <p:cNvSpPr/>
          <p:nvPr/>
        </p:nvSpPr>
        <p:spPr>
          <a:xfrm>
            <a:off x="16891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313" name="Picture 11" descr="HUD 2.JPG"/>
          <p:cNvPicPr/>
          <p:nvPr/>
        </p:nvPicPr>
        <p:blipFill>
          <a:blip r:embed="rId2"/>
          <a:stretch/>
        </p:blipFill>
        <p:spPr>
          <a:xfrm>
            <a:off x="7620120" y="5715000"/>
            <a:ext cx="914400" cy="914400"/>
          </a:xfrm>
          <a:prstGeom prst="rect">
            <a:avLst/>
          </a:prstGeom>
          <a:ln w="0">
            <a:noFill/>
          </a:ln>
        </p:spPr>
      </p:pic>
      <p:pic>
        <p:nvPicPr>
          <p:cNvPr id="314" name="Picture 12" descr="EPA.JPG"/>
          <p:cNvPicPr/>
          <p:nvPr/>
        </p:nvPicPr>
        <p:blipFill>
          <a:blip r:embed="rId3"/>
          <a:stretch/>
        </p:blipFill>
        <p:spPr>
          <a:xfrm>
            <a:off x="685800" y="5943600"/>
            <a:ext cx="1270080" cy="380880"/>
          </a:xfrm>
          <a:prstGeom prst="rect">
            <a:avLst/>
          </a:prstGeom>
          <a:ln w="0">
            <a:noFill/>
          </a:ln>
        </p:spPr>
      </p:pic>
      <p:sp>
        <p:nvSpPr>
          <p:cNvPr id="315"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AFB5726-4AD7-4635-8F9D-AFEBC5BDE0B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7"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58" name="Picture 11" descr="HUD 2.JPG"/>
          <p:cNvPicPr/>
          <p:nvPr/>
        </p:nvPicPr>
        <p:blipFill>
          <a:blip r:embed="rId2"/>
          <a:stretch/>
        </p:blipFill>
        <p:spPr>
          <a:xfrm>
            <a:off x="7620120" y="5715000"/>
            <a:ext cx="914400" cy="914400"/>
          </a:xfrm>
          <a:prstGeom prst="rect">
            <a:avLst/>
          </a:prstGeom>
          <a:ln w="0">
            <a:noFill/>
          </a:ln>
        </p:spPr>
      </p:pic>
      <p:pic>
        <p:nvPicPr>
          <p:cNvPr id="359" name="Picture 12" descr="EPA.JPG"/>
          <p:cNvPicPr/>
          <p:nvPr/>
        </p:nvPicPr>
        <p:blipFill>
          <a:blip r:embed="rId3"/>
          <a:stretch/>
        </p:blipFill>
        <p:spPr>
          <a:xfrm>
            <a:off x="685800" y="5943600"/>
            <a:ext cx="1270080" cy="380880"/>
          </a:xfrm>
          <a:prstGeom prst="rect">
            <a:avLst/>
          </a:prstGeom>
          <a:ln w="0">
            <a:noFill/>
          </a:ln>
        </p:spPr>
      </p:pic>
      <p:sp>
        <p:nvSpPr>
          <p:cNvPr id="360"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1CD8712F-BF57-402B-9689-C31ECF07330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2"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980720"/>
            <a:ext cx="76960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apítulo 3</a:t>
            </a:r>
            <a:br>
              <a:rPr sz="3600"/>
            </a:br>
            <a:endParaRPr b="0" lang="en-US" sz="3600" spc="-1" strike="noStrike">
              <a:solidFill>
                <a:srgbClr val="000000"/>
              </a:solidFill>
              <a:latin typeface="Calibri"/>
            </a:endParaRPr>
          </a:p>
        </p:txBody>
      </p:sp>
      <p:sp>
        <p:nvSpPr>
          <p:cNvPr id="540" name="PlaceHolder 2"/>
          <p:cNvSpPr>
            <a:spLocks noGrp="1"/>
          </p:cNvSpPr>
          <p:nvPr>
            <p:ph type="subTitle"/>
          </p:nvPr>
        </p:nvSpPr>
        <p:spPr>
          <a:xfrm>
            <a:off x="304560" y="3276720"/>
            <a:ext cx="8839080" cy="17524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s-ES" sz="3200" spc="-1" strike="noStrike">
                <a:solidFill>
                  <a:srgbClr val="3333cc"/>
                </a:solidFill>
                <a:latin typeface="Arial"/>
              </a:rPr>
              <a:t>Muestreo de polvo con plomo usando un pa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Cómo tomar muestras de polvo con un paño</a:t>
            </a:r>
            <a:br>
              <a:rPr sz="3600"/>
            </a:br>
            <a:endParaRPr b="0" lang="en-US" sz="3600" spc="-1" strike="noStrike">
              <a:solidFill>
                <a:srgbClr val="000000"/>
              </a:solidFill>
              <a:latin typeface="Calibri"/>
            </a:endParaRPr>
          </a:p>
        </p:txBody>
      </p:sp>
      <p:sp>
        <p:nvSpPr>
          <p:cNvPr id="558" name=""/>
          <p:cNvSpPr txBox="1"/>
          <p:nvPr/>
        </p:nvSpPr>
        <p:spPr>
          <a:xfrm>
            <a:off x="533520" y="160020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hora que sabe dónde y cuándo tomar muestras, la sección siguiente cubrirá la parte más importante del curso: Cómo tomar muestras de polvo con un paño.</a:t>
            </a:r>
            <a:endParaRPr b="0" lang="en-US" sz="28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Sea cual sea la regla según la que esté trabajando, los métodos para tomar y analizar más adelante muestras de polvo usando un paño son idéntic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ateriales de muestreo de polvo con plomo</a:t>
            </a:r>
            <a:endParaRPr b="0" lang="en-US" sz="3600" spc="-1" strike="noStrike">
              <a:solidFill>
                <a:srgbClr val="000000"/>
              </a:solidFill>
              <a:latin typeface="Calibri"/>
            </a:endParaRPr>
          </a:p>
        </p:txBody>
      </p:sp>
      <p:sp>
        <p:nvSpPr>
          <p:cNvPr id="560" name=""/>
          <p:cNvSpPr txBox="1"/>
          <p:nvPr/>
        </p:nvSpPr>
        <p:spPr>
          <a:xfrm>
            <a:off x="457200" y="1676160"/>
            <a:ext cx="8229600" cy="4267080"/>
          </a:xfrm>
          <a:prstGeom prst="rect">
            <a:avLst/>
          </a:prstGeom>
          <a:noFill/>
          <a:ln w="0">
            <a:noFill/>
          </a:ln>
        </p:spPr>
        <p:txBody>
          <a:bodyPr anchor="t">
            <a:normAutofit/>
          </a:bodyPr>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rPr>
              <a:t>Paños </a:t>
            </a:r>
            <a:r>
              <a:rPr b="0" lang="es-ES" sz="2000" spc="-1" strike="noStrike">
                <a:solidFill>
                  <a:srgbClr val="000000"/>
                </a:solidFill>
                <a:latin typeface="Arial"/>
              </a:rPr>
              <a:t>- Paños desechables empacados individualmente. Consulte con su laboratorio, a menudo los proporcionan.</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Guantes</a:t>
            </a:r>
            <a:r>
              <a:rPr b="0" lang="es-ES" sz="2000" spc="-1" strike="noStrike">
                <a:solidFill>
                  <a:srgbClr val="000000"/>
                </a:solidFill>
                <a:latin typeface="Arial"/>
                <a:ea typeface="Times New Roman"/>
              </a:rPr>
              <a:t> desechables - No deben estar esterilizados ni recubiertos de polvo.</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Cubrezapatos</a:t>
            </a:r>
            <a:r>
              <a:rPr b="0" lang="es-ES" sz="2000" spc="-1" strike="noStrike">
                <a:solidFill>
                  <a:srgbClr val="000000"/>
                </a:solidFill>
                <a:latin typeface="Arial"/>
                <a:ea typeface="Times New Roman"/>
              </a:rPr>
              <a:t> desechables - El uso de cubrezapatos desechables ayuda a minimizar la transferencia de polvo depositado de un lugar a otro.</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Recipientes-</a:t>
            </a:r>
            <a:r>
              <a:rPr b="0" lang="es-ES" sz="2000" spc="-1" strike="noStrike">
                <a:solidFill>
                  <a:srgbClr val="000000"/>
                </a:solidFill>
                <a:latin typeface="Arial"/>
                <a:ea typeface="Times New Roman"/>
              </a:rPr>
              <a:t> Tubos centrífugos u otros recipientes plásticos duros que no sean de vidrio. Deben ser tubos plásticos no esterilizados equipados con una tapa sellable.</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Plantilla</a:t>
            </a:r>
            <a:r>
              <a:rPr b="0" lang="es-ES" sz="2000" spc="-1" strike="noStrike">
                <a:solidFill>
                  <a:srgbClr val="000000"/>
                </a:solidFill>
                <a:latin typeface="Arial"/>
                <a:ea typeface="Times New Roman"/>
              </a:rPr>
              <a:t>  reutilizable - Plantilla reutilizable de 12” x 12” para pis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rPr>
              <a:t>Materiales de muestreo de polvo con plomo (cont.)</a:t>
            </a:r>
            <a:endParaRPr b="0" lang="en-US" sz="32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Cinta adhesiva </a:t>
            </a:r>
            <a:r>
              <a:rPr b="0" lang="es-ES" sz="2000" spc="-1" strike="noStrike">
                <a:solidFill>
                  <a:srgbClr val="000000"/>
                </a:solidFill>
                <a:latin typeface="Arial"/>
              </a:rPr>
              <a:t>-  La cinta adhesiva o para pintores da buenos resultados. </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Regla</a:t>
            </a:r>
            <a:r>
              <a:rPr b="0" lang="es-ES" sz="2000" spc="-1" strike="noStrike">
                <a:solidFill>
                  <a:srgbClr val="000000"/>
                </a:solidFill>
                <a:latin typeface="Arial"/>
              </a:rPr>
              <a:t> -Para medir áreas de muestreo si no se dispone de plantilla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s-ES" sz="2000" spc="-1" strike="noStrike">
                <a:solidFill>
                  <a:srgbClr val="000000"/>
                </a:solidFill>
                <a:latin typeface="Arial"/>
              </a:rPr>
              <a:t>Formularios de recogida de muestras y </a:t>
            </a:r>
            <a:r>
              <a:rPr b="1" lang="es-ES" sz="2000" spc="-1" strike="noStrike">
                <a:solidFill>
                  <a:srgbClr val="000000"/>
                </a:solidFill>
                <a:latin typeface="Arial"/>
              </a:rPr>
              <a:t>formularios de cadena de custodia </a:t>
            </a:r>
            <a:r>
              <a:rPr b="0" lang="es-ES" sz="2000" spc="-1" strike="noStrike">
                <a:solidFill>
                  <a:srgbClr val="000000"/>
                </a:solidFill>
                <a:latin typeface="Arial"/>
              </a:rPr>
              <a:t>.</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Artículos</a:t>
            </a:r>
            <a:r>
              <a:rPr b="0" lang="es-ES" sz="2000" spc="-1" strike="noStrike">
                <a:solidFill>
                  <a:srgbClr val="000000"/>
                </a:solidFill>
                <a:latin typeface="Arial"/>
              </a:rPr>
              <a:t> de etiquetado y limpieza. Marcadores permanentes, bolsas de basura, etiquetas, bolsas resellables para guardar objetos y paños sanitario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Pluma</a:t>
            </a:r>
            <a:r>
              <a:rPr b="0" lang="es-ES" sz="2000" spc="-1" strike="noStrike">
                <a:solidFill>
                  <a:srgbClr val="000000"/>
                </a:solidFill>
                <a:latin typeface="Arial"/>
              </a:rPr>
              <a:t> - Etiquete los tubos y escriba notas para completar el formulario de recogida de muestra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Calculadora</a:t>
            </a:r>
            <a:r>
              <a:rPr b="0" lang="es-ES" sz="2000" spc="-1" strike="noStrike">
                <a:solidFill>
                  <a:srgbClr val="000000"/>
                </a:solidFill>
                <a:latin typeface="Arial"/>
              </a:rPr>
              <a:t> - Para ayudar a calcular las dimensiones del área de muestre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uestras en blanco</a:t>
            </a:r>
            <a:endParaRPr b="0" lang="en-US" sz="3600" spc="-1" strike="noStrike">
              <a:solidFill>
                <a:srgbClr val="000000"/>
              </a:solidFill>
              <a:latin typeface="Calibri"/>
            </a:endParaRPr>
          </a:p>
        </p:txBody>
      </p:sp>
      <p:sp>
        <p:nvSpPr>
          <p:cNvPr id="564" name=""/>
          <p:cNvSpPr txBox="1"/>
          <p:nvPr/>
        </p:nvSpPr>
        <p:spPr>
          <a:xfrm>
            <a:off x="838080" y="1447920"/>
            <a:ext cx="7848720" cy="441936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Paño nuevo sin usar probado en el laboratorio para determinar si el medio de muestreo está contaminad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El laboratorio no debe saber que son muestras en blanco; </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 las muestras en blanco se les deben asignar números de muestras y ubicacione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ólo su copia del formulario de recogida de muestras debe identificar qué muestras son muestras en blanc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e debe enviar una muestra en blanco:</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Por cada trabajo probado;</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e cada lote de pañ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9440" y="274320"/>
            <a:ext cx="585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Cómo recoger muestras </a:t>
            </a:r>
            <a:r>
              <a:rPr b="1" lang="es-ES" sz="3600" spc="-1" strike="noStrike">
                <a:solidFill>
                  <a:srgbClr val="3333cc"/>
                </a:solidFill>
                <a:latin typeface="Arial"/>
                <a:ea typeface="Lucida Sans Unicode"/>
              </a:rPr>
              <a:t>	</a:t>
            </a:r>
            <a:endParaRPr b="0" lang="en-US" sz="3600" spc="-1" strike="noStrike">
              <a:solidFill>
                <a:srgbClr val="000000"/>
              </a:solidFill>
              <a:latin typeface="Calibri"/>
            </a:endParaRPr>
          </a:p>
        </p:txBody>
      </p:sp>
      <p:sp>
        <p:nvSpPr>
          <p:cNvPr id="566" name=""/>
          <p:cNvSpPr txBox="1"/>
          <p:nvPr/>
        </p:nvSpPr>
        <p:spPr>
          <a:xfrm>
            <a:off x="685440" y="1599840"/>
            <a:ext cx="8001000" cy="4221000"/>
          </a:xfrm>
          <a:prstGeom prst="rect">
            <a:avLst/>
          </a:prstGeom>
          <a:noFill/>
          <a:ln w="0">
            <a:noFill/>
          </a:ln>
        </p:spPr>
        <p:txBody>
          <a:bodyPr anchor="t">
            <a:normAutofit/>
          </a:bodyPr>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1: Póngase cubrezapatos desechables y establezca el área de muestra.</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2: Prepare los tub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3: Póngase guantes limpi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4: Muestree el área seleccionada y ponga el paño en el tubo.</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5: Mida el área de muestreo.</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6: Anote el área de muestreo (dimensiones) en los formulari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7: Limpiez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8240" y="228240"/>
            <a:ext cx="8915400" cy="1676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1: Póngase cubrezapatos desechables y establezca el área de muestreo</a:t>
            </a:r>
            <a:endParaRPr b="0" lang="en-US" sz="3200" spc="-1" strike="noStrike">
              <a:solidFill>
                <a:srgbClr val="000000"/>
              </a:solidFill>
              <a:latin typeface="Calibri"/>
            </a:endParaRPr>
          </a:p>
        </p:txBody>
      </p:sp>
      <p:sp>
        <p:nvSpPr>
          <p:cNvPr id="568" name=""/>
          <p:cNvSpPr txBox="1"/>
          <p:nvPr/>
        </p:nvSpPr>
        <p:spPr>
          <a:xfrm>
            <a:off x="533520" y="1676160"/>
            <a:ext cx="8153280" cy="4190760"/>
          </a:xfrm>
          <a:prstGeom prst="rect">
            <a:avLst/>
          </a:prstGeom>
          <a:noFill/>
          <a:ln w="0">
            <a:noFill/>
          </a:ln>
        </p:spPr>
        <p:txBody>
          <a:bodyPr anchor="t">
            <a:normAutofit fontScale="99000"/>
          </a:bodyPr>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Póngase cubrezapatos. </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Marque el área de muestreo con cinta adhesiva o una plantilla.</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Las plantillas deben ser de material duradero.</a:t>
            </a:r>
            <a:endParaRPr b="0" lang="en-US" sz="2200" spc="-1" strike="noStrike">
              <a:solidFill>
                <a:srgbClr val="000000"/>
              </a:solidFill>
              <a:latin typeface="Calibri"/>
            </a:endParaRPr>
          </a:p>
          <a:p>
            <a:pPr lvl="1" marL="732240" indent="-27972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La muestra del piso mide generalmente 12” x 12”.</a:t>
            </a:r>
            <a:endParaRPr b="0" lang="en-US" sz="2200" spc="-1" strike="noStrike">
              <a:solidFill>
                <a:srgbClr val="000000"/>
              </a:solidFill>
              <a:latin typeface="Calibri"/>
            </a:endParaRPr>
          </a:p>
          <a:p>
            <a:pPr lvl="1" marL="732240" indent="-27972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Asegúrese de limpiar la plantilla con un paño nuevo.</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También se puede usar cinta adhesiva para marcar el área de muestreo.</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Coloque la cinta adhesiva de forma recta de modo que pueda medir con precisión el área de muestreo más adelante.</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NO toque el área dentro del área de muestre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olocación de la plantilla en el piso con cinta adhesiva</a:t>
            </a:r>
            <a:endParaRPr b="0" lang="en-US" sz="3600" spc="-1" strike="noStrike">
              <a:solidFill>
                <a:srgbClr val="000000"/>
              </a:solidFill>
              <a:latin typeface="Calibri"/>
            </a:endParaRPr>
          </a:p>
        </p:txBody>
      </p:sp>
      <p:sp>
        <p:nvSpPr>
          <p:cNvPr id="570" name="Rectangle 6"/>
          <p:cNvSpPr/>
          <p:nvPr/>
        </p:nvSpPr>
        <p:spPr>
          <a:xfrm>
            <a:off x="1905120" y="1371600"/>
            <a:ext cx="548640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3" descr="Fotografía de una persona grabando una plantilla de muestreo cuadrada sobre un suelo de madera"/>
          <p:cNvPicPr/>
          <p:nvPr/>
        </p:nvPicPr>
        <p:blipFill>
          <a:blip r:embed="rId1"/>
          <a:srcRect l="0" t="10303" r="0" b="0"/>
          <a:stretch/>
        </p:blipFill>
        <p:spPr>
          <a:xfrm>
            <a:off x="1473120" y="1536840"/>
            <a:ext cx="6189840" cy="411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arcado del área de muestreo con cinta adhesiva</a:t>
            </a:r>
            <a:endParaRPr b="0" lang="en-US" sz="3600" spc="-1" strike="noStrike">
              <a:solidFill>
                <a:srgbClr val="000000"/>
              </a:solidFill>
              <a:latin typeface="Calibri"/>
            </a:endParaRPr>
          </a:p>
        </p:txBody>
      </p:sp>
      <p:grpSp>
        <p:nvGrpSpPr>
          <p:cNvPr id="573" name="Group 4"/>
          <p:cNvGrpSpPr/>
          <p:nvPr/>
        </p:nvGrpSpPr>
        <p:grpSpPr>
          <a:xfrm>
            <a:off x="1246320" y="1592280"/>
            <a:ext cx="6640200" cy="3790800"/>
            <a:chOff x="1246320" y="1592280"/>
            <a:chExt cx="6640200" cy="3790800"/>
          </a:xfrm>
        </p:grpSpPr>
        <p:pic>
          <p:nvPicPr>
            <p:cNvPr id="574" name="Picture 5" descr=""/>
            <p:cNvPicPr/>
            <p:nvPr/>
          </p:nvPicPr>
          <p:blipFill>
            <a:blip r:embed="rId1"/>
            <a:stretch/>
          </p:blipFill>
          <p:spPr>
            <a:xfrm>
              <a:off x="1246320" y="1592280"/>
              <a:ext cx="6640200" cy="3790800"/>
            </a:xfrm>
            <a:prstGeom prst="rect">
              <a:avLst/>
            </a:prstGeom>
            <a:ln w="0">
              <a:noFill/>
            </a:ln>
          </p:spPr>
        </p:pic>
        <p:sp>
          <p:nvSpPr>
            <p:cNvPr id="575" name="Text Box 6"/>
            <p:cNvSpPr/>
            <p:nvPr/>
          </p:nvSpPr>
          <p:spPr>
            <a:xfrm>
              <a:off x="1246320" y="1592280"/>
              <a:ext cx="6640200" cy="3790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olocación de cinta adhesiva en el antepecho de la ventana</a:t>
            </a:r>
            <a:endParaRPr b="0" lang="en-US" sz="3600" spc="-1" strike="noStrike">
              <a:solidFill>
                <a:srgbClr val="000000"/>
              </a:solidFill>
              <a:latin typeface="Calibri"/>
            </a:endParaRPr>
          </a:p>
        </p:txBody>
      </p:sp>
      <p:sp>
        <p:nvSpPr>
          <p:cNvPr id="577" name="Rectangle 6"/>
          <p:cNvSpPr/>
          <p:nvPr/>
        </p:nvSpPr>
        <p:spPr>
          <a:xfrm flipV="1">
            <a:off x="1371600" y="1522800"/>
            <a:ext cx="6248520" cy="3812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3" descr="Fotografía de las manos de una persona aplicando cinta sobre un alféizar"/>
          <p:cNvPicPr/>
          <p:nvPr/>
        </p:nvPicPr>
        <p:blipFill>
          <a:blip r:embed="rId1"/>
          <a:srcRect l="0" t="10469" r="0" b="0"/>
          <a:stretch/>
        </p:blipFill>
        <p:spPr>
          <a:xfrm>
            <a:off x="1430280" y="1601640"/>
            <a:ext cx="6283440" cy="41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Paso 2: Prepare los tubos</a:t>
            </a:r>
            <a:endParaRPr b="0" lang="en-US" sz="3600" spc="-1" strike="noStrike">
              <a:solidFill>
                <a:srgbClr val="000000"/>
              </a:solidFill>
              <a:latin typeface="Calibri"/>
            </a:endParaRPr>
          </a:p>
        </p:txBody>
      </p:sp>
      <p:sp>
        <p:nvSpPr>
          <p:cNvPr id="580" name=""/>
          <p:cNvSpPr txBox="1"/>
          <p:nvPr/>
        </p:nvSpPr>
        <p:spPr>
          <a:xfrm>
            <a:off x="914400" y="1447560"/>
            <a:ext cx="7772400" cy="43434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Use tubos limpios de lados duros.</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segúrese de que el tubo esté etiquetado con un número de identificación.</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note el número de identificación en los formularios de recogida de muestras y de cadena de custodia.</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Desenrosque parcialmente la tapa del tubo.</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oloque el tubo cerca del área de muestre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0" lang="en-US" sz="3600" spc="-1" strike="noStrike">
              <a:solidFill>
                <a:srgbClr val="000000"/>
              </a:solidFill>
              <a:latin typeface="Calibri"/>
            </a:endParaRPr>
          </a:p>
        </p:txBody>
      </p:sp>
      <p:sp>
        <p:nvSpPr>
          <p:cNvPr id="542" name=""/>
          <p:cNvSpPr txBox="1"/>
          <p:nvPr/>
        </p:nvSpPr>
        <p:spPr>
          <a:xfrm>
            <a:off x="457200" y="1523520"/>
            <a:ext cx="8229600" cy="4343400"/>
          </a:xfrm>
          <a:prstGeom prst="rect">
            <a:avLst/>
          </a:prstGeom>
          <a:noFill/>
          <a:ln w="0">
            <a:noFill/>
          </a:ln>
        </p:spPr>
        <p:txBody>
          <a:bodyPr anchor="t">
            <a:normAutofit/>
          </a:bodyPr>
          <a:p>
            <a:pPr marL="339840" indent="-339840">
              <a:lnSpc>
                <a:spcPct val="100000"/>
              </a:lnSpc>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cuándo y dónde se deben tomar muestras de polvo con un pañ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a tomar una muestra de polvo con un pañ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Muestrear 3 superficies donde se haya acumulado polv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la diferencia entre muestreo de una sola superficie y muestreo compues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769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Paso 3: Póngase guantes limpios</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82" name=""/>
          <p:cNvSpPr txBox="1"/>
          <p:nvPr/>
        </p:nvSpPr>
        <p:spPr>
          <a:xfrm>
            <a:off x="838080" y="1904760"/>
            <a:ext cx="7467840" cy="327636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Use guantes desechables.</a:t>
            </a:r>
            <a:endParaRPr b="0" lang="en-US" sz="30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Use guantes nuevos para cada muestra.</a:t>
            </a:r>
            <a:endParaRPr b="0" lang="en-US" sz="30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Después de ponerse los guantes, NO toque nada más antes de recoger el pañ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533160"/>
            <a:ext cx="73152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4: Pase un paño por las áreas de muestreo</a:t>
            </a:r>
            <a:endParaRPr b="0" lang="en-US" sz="3600" spc="-1" strike="noStrike">
              <a:solidFill>
                <a:srgbClr val="000000"/>
              </a:solidFill>
              <a:latin typeface="Calibri"/>
            </a:endParaRPr>
          </a:p>
        </p:txBody>
      </p:sp>
      <p:sp>
        <p:nvSpPr>
          <p:cNvPr id="584" name=""/>
          <p:cNvSpPr txBox="1"/>
          <p:nvPr/>
        </p:nvSpPr>
        <p:spPr>
          <a:xfrm>
            <a:off x="456840" y="1676160"/>
            <a:ext cx="7924680" cy="47242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procedimientos para tomar muestras de polvo usando un paño de pisos, antepecho de ventana y canales se indican en las diapositivas siguiente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l procedimiento para muestrear pisos es diferente que el procedimiento para muestrear antepecho y canales de ventana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l Paso 4 de muestreo de polvo con plomo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usando un paño se describe también en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la </a:t>
            </a:r>
            <a:r>
              <a:rPr b="0" i="1" lang="es-ES" sz="2400" spc="-1" strike="noStrike">
                <a:solidFill>
                  <a:srgbClr val="000000"/>
                </a:solidFill>
                <a:latin typeface="Arial"/>
                <a:ea typeface="Lucida Sans Unicode"/>
              </a:rPr>
              <a:t>Guía de campo del técnico de muestreo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400" spc="-1" strike="noStrike">
                <a:solidFill>
                  <a:srgbClr val="000000"/>
                </a:solidFill>
                <a:latin typeface="Arial"/>
                <a:ea typeface="Lucida Sans Unicode"/>
              </a:rPr>
              <a:t>	</a:t>
            </a:r>
            <a:r>
              <a:rPr b="0" i="1" lang="es-ES" sz="2400" spc="-1" strike="noStrike">
                <a:solidFill>
                  <a:srgbClr val="000000"/>
                </a:solidFill>
                <a:latin typeface="Arial"/>
                <a:ea typeface="Lucida Sans Unicode"/>
              </a:rPr>
              <a:t>de polvo con plomo</a:t>
            </a:r>
            <a:r>
              <a:rPr b="0" lang="es-ES" sz="2400" spc="-1" strike="noStrike">
                <a:solidFill>
                  <a:srgbClr val="000000"/>
                </a:solidFill>
                <a:latin typeface="Arial"/>
                <a:ea typeface="Lucida Sans Unicode"/>
              </a:rPr>
              <a:t>.</a:t>
            </a:r>
            <a:endParaRPr b="0" lang="en-US" sz="2400" spc="-1" strike="noStrike">
              <a:solidFill>
                <a:srgbClr val="000000"/>
              </a:solidFill>
              <a:latin typeface="Calibri"/>
            </a:endParaRPr>
          </a:p>
        </p:txBody>
      </p:sp>
      <p:graphicFrame>
        <p:nvGraphicFramePr>
          <p:cNvPr id="585" name="Object 4"/>
          <p:cNvGraphicFramePr/>
          <p:nvPr/>
        </p:nvGraphicFramePr>
        <p:xfrm>
          <a:off x="7238880" y="4038480"/>
          <a:ext cx="1041480" cy="1219320"/>
        </p:xfrm>
        <a:graphic>
          <a:graphicData uri="http://schemas.openxmlformats.org/presentationml/2006/ole">
            <p:oleObj r:id="rId1" spid="">
              <p:embed/>
              <p:pic>
                <p:nvPicPr>
                  <p:cNvPr id="586" name="Object 4" descr=""/>
                  <p:cNvPicPr/>
                  <p:nvPr/>
                </p:nvPicPr>
                <p:blipFill>
                  <a:blip r:embed="rId2"/>
                  <a:stretch/>
                </p:blipFill>
                <p:spPr>
                  <a:xfrm>
                    <a:off x="7238880" y="4038480"/>
                    <a:ext cx="104148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a:t>
            </a:r>
            <a:endParaRPr b="0" lang="en-US" sz="3200" spc="-1" strike="noStrike">
              <a:solidFill>
                <a:srgbClr val="000000"/>
              </a:solidFill>
              <a:latin typeface="Calibri"/>
            </a:endParaRPr>
          </a:p>
        </p:txBody>
      </p:sp>
      <p:sp>
        <p:nvSpPr>
          <p:cNvPr id="588" name=""/>
          <p:cNvSpPr txBox="1"/>
          <p:nvPr/>
        </p:nvSpPr>
        <p:spPr>
          <a:xfrm>
            <a:off x="685440" y="1599840"/>
            <a:ext cx="8001000" cy="434340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No toque otros objetos. Pueden contaminar el paño.</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Haga fuerza sobre el paño (con los dedos, no con la palma de la mano) en una esquina superior del área de muestreo.</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Haga tantos movimientos en “S” como sean necesarios de un lado a otro para pasar el paño por toda el área de muestreo. No se salga del límite exterior de la cinta adhesiva o plantilla.</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oble el paño por la mitad, manteniendo el lado sucio dentro, y repita el procedimiento para pasar el paño (movimiento en “S”). Doblar el paño con cuidado ayuda a prevenir la pérdida del polvo recogi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609120"/>
            <a:ext cx="81532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 (cont.)</a:t>
            </a:r>
            <a:endParaRPr b="0" lang="en-US" sz="3200" spc="-1" strike="noStrike">
              <a:solidFill>
                <a:srgbClr val="000000"/>
              </a:solidFill>
              <a:latin typeface="Calibri"/>
            </a:endParaRPr>
          </a:p>
        </p:txBody>
      </p:sp>
      <p:sp>
        <p:nvSpPr>
          <p:cNvPr id="590" name=""/>
          <p:cNvSpPr txBox="1"/>
          <p:nvPr/>
        </p:nvSpPr>
        <p:spPr>
          <a:xfrm>
            <a:off x="457200" y="2057400"/>
            <a:ext cx="8229600" cy="3992400"/>
          </a:xfrm>
          <a:prstGeom prst="rect">
            <a:avLst/>
          </a:prstGeom>
          <a:noFill/>
          <a:ln w="0">
            <a:noFill/>
          </a:ln>
        </p:spPr>
        <p:txBody>
          <a:bodyPr anchor="t">
            <a:normAutofit/>
          </a:bodyPr>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otra vez el paño por la mitad, manteniendo todo el polvo en el paño, y repita una vez más el procedimiento para pasar el paño, concentrándose en recoger el polvo de las esquinas dentro del área de la superficie seleccionada.</a:t>
            </a:r>
            <a:endParaRPr b="0" lang="en-US" sz="24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paños se doblan para mantener el polvo recogido dentro del paño, evitar pérdidas de polvo y exponer una superficie limpia para pasar el paño a fin de efectuar una recogida adic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 (cont.)</a:t>
            </a:r>
            <a:endParaRPr b="0" lang="en-US" sz="3200" spc="-1" strike="noStrike">
              <a:solidFill>
                <a:srgbClr val="000000"/>
              </a:solidFill>
              <a:latin typeface="Calibri"/>
            </a:endParaRPr>
          </a:p>
        </p:txBody>
      </p:sp>
      <p:sp>
        <p:nvSpPr>
          <p:cNvPr id="592" name=""/>
          <p:cNvSpPr txBox="1"/>
          <p:nvPr/>
        </p:nvSpPr>
        <p:spPr>
          <a:xfrm>
            <a:off x="609480" y="2133360"/>
            <a:ext cx="8229600" cy="297180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Doble nuevamente el paño con el lado de la muestra doblado hacia adentro, y ponga el paño doblado dentro del tubo de muestras.  Evite el contacto con otras superficies. </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Tape el recipiente.  Deseche los guantes en una bolsa para basu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4" name="Picture 5" descr="Fotografía de una persona lista para obtener una muestra del polvo del suelo. Una plantilla de muestreo en el suelo."/>
          <p:cNvPicPr/>
          <p:nvPr/>
        </p:nvPicPr>
        <p:blipFill>
          <a:blip r:embed="rId1"/>
          <a:stretch/>
        </p:blipFill>
        <p:spPr>
          <a:xfrm>
            <a:off x="1854360" y="1608120"/>
            <a:ext cx="5414760" cy="408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6" name="Picture 7" descr="Fotografía de una persona limpiando el suelo con un trapo para el polvo dentro de una plantilla de muestreo cuadrada"/>
          <p:cNvPicPr/>
          <p:nvPr/>
        </p:nvPicPr>
        <p:blipFill>
          <a:blip r:embed="rId1"/>
          <a:stretch/>
        </p:blipFill>
        <p:spPr>
          <a:xfrm>
            <a:off x="1862280" y="1582560"/>
            <a:ext cx="5419440" cy="406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8" name="Picture 7" descr="Fotografía de una persona limpiando el suelo dentro de una plantilla de muestreo cuadrada"/>
          <p:cNvPicPr/>
          <p:nvPr/>
        </p:nvPicPr>
        <p:blipFill>
          <a:blip r:embed="rId1"/>
          <a:stretch/>
        </p:blipFill>
        <p:spPr>
          <a:xfrm>
            <a:off x="1770120" y="1595520"/>
            <a:ext cx="5587920" cy="398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560" y="151920"/>
            <a:ext cx="8839080" cy="1600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antepechos y canales de ventanas</a:t>
            </a:r>
            <a:endParaRPr b="0" lang="en-US" sz="3200" spc="-1" strike="noStrike">
              <a:solidFill>
                <a:srgbClr val="000000"/>
              </a:solidFill>
              <a:latin typeface="Calibri"/>
            </a:endParaRPr>
          </a:p>
        </p:txBody>
      </p:sp>
      <p:sp>
        <p:nvSpPr>
          <p:cNvPr id="600" name=""/>
          <p:cNvSpPr txBox="1"/>
          <p:nvPr/>
        </p:nvSpPr>
        <p:spPr>
          <a:xfrm>
            <a:off x="304560" y="1599840"/>
            <a:ext cx="8839080" cy="441972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Muestreo de antepechos y canales de ventanas interiores: </a:t>
            </a:r>
            <a:endParaRPr b="0" lang="en-US" sz="28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antenga los dedos juntos y planos contra la superficie;</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ase un paño por la superficie una sola vez mientras ejerce una presión constante;</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el paño por la mitad con el lado usado hacia adentro y pase el paño en ambos sentidos;</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el paño por la mitad otra vez con el lado usado hacia adentro y concéntrese en las esquinas y bordes;</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Coloque el paño doblado en el tub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3160" y="380520"/>
            <a:ext cx="8381880" cy="16304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Antepechos y canales de ventanas (cont.)</a:t>
            </a:r>
            <a:endParaRPr b="0" lang="en-US" sz="3200" spc="-1" strike="noStrike">
              <a:solidFill>
                <a:srgbClr val="000000"/>
              </a:solidFill>
              <a:latin typeface="Calibri"/>
            </a:endParaRPr>
          </a:p>
        </p:txBody>
      </p:sp>
      <p:sp>
        <p:nvSpPr>
          <p:cNvPr id="602" name=""/>
          <p:cNvSpPr txBox="1"/>
          <p:nvPr/>
        </p:nvSpPr>
        <p:spPr>
          <a:xfrm>
            <a:off x="457200" y="2209320"/>
            <a:ext cx="8229600" cy="342900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Muestreo de antepechos interiores y canales de ventanas interiores</a:t>
            </a:r>
            <a:endParaRPr b="0" lang="en-US" sz="28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Tape el tubo;</a:t>
            </a:r>
            <a:endParaRPr b="0" lang="en-US" sz="24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tiquete el tubo debidamente;</a:t>
            </a:r>
            <a:endParaRPr b="0" lang="en-US" sz="24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y anote las dimensiones del área de muestreo seleccionada. Deseche los guantes en una bolsa para basura y después cierre la bol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edidas para muestrear polvo con plomo usando un paño </a:t>
            </a:r>
            <a:endParaRPr b="0" lang="en-US" sz="3600" spc="-1" strike="noStrike">
              <a:solidFill>
                <a:srgbClr val="000000"/>
              </a:solidFill>
              <a:latin typeface="Calibri"/>
            </a:endParaRPr>
          </a:p>
        </p:txBody>
      </p:sp>
      <p:sp>
        <p:nvSpPr>
          <p:cNvPr id="544" name=""/>
          <p:cNvSpPr txBox="1"/>
          <p:nvPr/>
        </p:nvSpPr>
        <p:spPr>
          <a:xfrm>
            <a:off x="457200" y="1523520"/>
            <a:ext cx="8229600" cy="4496040"/>
          </a:xfrm>
          <a:prstGeom prst="rect">
            <a:avLst/>
          </a:prstGeom>
          <a:noFill/>
          <a:ln w="0">
            <a:noFill/>
          </a:ln>
        </p:spPr>
        <p:txBody>
          <a:bodyPr anchor="t">
            <a:norm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antidad de polvo con plomo total en un área de superficie específica (carga de plomo);</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estándares de aprobación del polvo con plomo de la EPA usan este tipo de medida.</a:t>
            </a:r>
            <a:endParaRPr b="0" lang="en-US" sz="2400" spc="-1" strike="noStrike">
              <a:solidFill>
                <a:srgbClr val="000000"/>
              </a:solidFill>
              <a:latin typeface="Calibri"/>
            </a:endParaRPr>
          </a:p>
          <a:p>
            <a:pPr marL="339840" indent="-339840">
              <a:lnSpc>
                <a:spcPct val="9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Plomo presente en el momento y la ubicación de recogida de muestras;</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indica nada sobre concentraciones pasadas o futuras;</a:t>
            </a:r>
            <a:endParaRPr b="0" lang="en-US" sz="24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as concentraciones de plomo pueden cambiar dependiendo de la actividad en la casa o en distintos lug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uestreo de un antepechos de ventana</a:t>
            </a:r>
            <a:endParaRPr b="0" lang="en-US" sz="3600" spc="-1" strike="noStrike">
              <a:solidFill>
                <a:srgbClr val="000000"/>
              </a:solidFill>
              <a:latin typeface="Calibri"/>
            </a:endParaRPr>
          </a:p>
        </p:txBody>
      </p:sp>
      <p:pic>
        <p:nvPicPr>
          <p:cNvPr id="604" name="Picture 6" descr="Fotografía de una persona con guantes limpiando un alféizar entre dos cintas adhesivas con un tubo de muestreo en una mano."/>
          <p:cNvPicPr/>
          <p:nvPr/>
        </p:nvPicPr>
        <p:blipFill>
          <a:blip r:embed="rId1"/>
          <a:stretch/>
        </p:blipFill>
        <p:spPr>
          <a:xfrm>
            <a:off x="1668600" y="1600200"/>
            <a:ext cx="5790960" cy="3860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uestreo de un canal de ventana</a:t>
            </a:r>
            <a:endParaRPr b="0" lang="en-US" sz="3600" spc="-1" strike="noStrike">
              <a:solidFill>
                <a:srgbClr val="000000"/>
              </a:solidFill>
              <a:latin typeface="Calibri"/>
            </a:endParaRPr>
          </a:p>
        </p:txBody>
      </p:sp>
      <p:grpSp>
        <p:nvGrpSpPr>
          <p:cNvPr id="606" name="Group 4"/>
          <p:cNvGrpSpPr/>
          <p:nvPr/>
        </p:nvGrpSpPr>
        <p:grpSpPr>
          <a:xfrm>
            <a:off x="1460520" y="1600200"/>
            <a:ext cx="6210360" cy="3960720"/>
            <a:chOff x="1460520" y="1600200"/>
            <a:chExt cx="6210360" cy="3960720"/>
          </a:xfrm>
        </p:grpSpPr>
        <p:pic>
          <p:nvPicPr>
            <p:cNvPr id="607" name="Picture 5" descr=""/>
            <p:cNvPicPr/>
            <p:nvPr/>
          </p:nvPicPr>
          <p:blipFill>
            <a:blip r:embed="rId1"/>
            <a:stretch/>
          </p:blipFill>
          <p:spPr>
            <a:xfrm>
              <a:off x="1460520" y="1600200"/>
              <a:ext cx="6210360" cy="3960720"/>
            </a:xfrm>
            <a:prstGeom prst="rect">
              <a:avLst/>
            </a:prstGeom>
            <a:ln w="0">
              <a:noFill/>
            </a:ln>
          </p:spPr>
        </p:pic>
        <p:sp>
          <p:nvSpPr>
            <p:cNvPr id="608" name="Text Box 6"/>
            <p:cNvSpPr/>
            <p:nvPr/>
          </p:nvSpPr>
          <p:spPr>
            <a:xfrm>
              <a:off x="1460520" y="1600200"/>
              <a:ext cx="6210360" cy="3960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5: Mida el área de muestreo</a:t>
            </a:r>
            <a:endParaRPr b="0" lang="en-US" sz="3600" spc="-1" strike="noStrike">
              <a:solidFill>
                <a:srgbClr val="000000"/>
              </a:solidFill>
              <a:latin typeface="Calibri"/>
            </a:endParaRPr>
          </a:p>
        </p:txBody>
      </p:sp>
      <p:sp>
        <p:nvSpPr>
          <p:cNvPr id="610" name=""/>
          <p:cNvSpPr txBox="1"/>
          <p:nvPr/>
        </p:nvSpPr>
        <p:spPr>
          <a:xfrm>
            <a:off x="457200" y="1523520"/>
            <a:ext cx="8229600" cy="44197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el ancho y la longitud (a menos que se haya usado la plantilla). El área debe medir al menos 16 pulgadas cuadradas (2 pulgadas por 8 pulgadas). Mida con una precisión de 1/8 pulg.</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el área exacta después de tomar la muestra:</a:t>
            </a:r>
            <a:endParaRPr b="0" lang="en-US" sz="2400" spc="-1" strike="noStrike">
              <a:solidFill>
                <a:srgbClr val="000000"/>
              </a:solidFill>
              <a:latin typeface="Calibri"/>
            </a:endParaRPr>
          </a:p>
          <a:p>
            <a:pPr lvl="1" marL="739800" indent="-282600">
              <a:lnSpc>
                <a:spcPct val="100000"/>
              </a:lnSpc>
              <a:spcBef>
                <a:spcPts val="3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ngitud del antepecho o canal entre bordes interiores de la cinta adhesiva;</a:t>
            </a:r>
            <a:endParaRPr b="0" lang="en-US" sz="2400" spc="-1" strike="noStrike">
              <a:solidFill>
                <a:srgbClr val="000000"/>
              </a:solidFill>
              <a:latin typeface="Calibri"/>
            </a:endParaRPr>
          </a:p>
          <a:p>
            <a:pPr lvl="1" marL="739800" indent="-282600">
              <a:lnSpc>
                <a:spcPct val="100000"/>
              </a:lnSpc>
              <a:spcBef>
                <a:spcPts val="3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onga cinta adhesiva a través del ancho del antepecho o canal (de adelante hacia atrá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quite la cinta adhesiva hasta después de que se hayan tomado las medid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edición del antepecho de la ventana</a:t>
            </a:r>
            <a:endParaRPr b="0" lang="en-US" sz="3600" spc="-1" strike="noStrike">
              <a:solidFill>
                <a:srgbClr val="000000"/>
              </a:solidFill>
              <a:latin typeface="Calibri"/>
            </a:endParaRPr>
          </a:p>
        </p:txBody>
      </p:sp>
      <p:sp>
        <p:nvSpPr>
          <p:cNvPr id="612" name="Rectangle 6"/>
          <p:cNvSpPr/>
          <p:nvPr/>
        </p:nvSpPr>
        <p:spPr>
          <a:xfrm>
            <a:off x="2209680" y="3276720"/>
            <a:ext cx="472464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3" descr="Fotografía de una regla sobre un alféizar"/>
          <p:cNvPicPr/>
          <p:nvPr/>
        </p:nvPicPr>
        <p:blipFill>
          <a:blip r:embed="rId1"/>
          <a:srcRect l="0" t="8211" r="0" b="0"/>
          <a:stretch/>
        </p:blipFill>
        <p:spPr>
          <a:xfrm>
            <a:off x="1608120" y="1563840"/>
            <a:ext cx="5910120" cy="40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17400" y="274320"/>
            <a:ext cx="78487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6: Anote el área de muestreo en los formularios</a:t>
            </a:r>
            <a:endParaRPr b="0" lang="en-US" sz="3200" spc="-1" strike="noStrike">
              <a:solidFill>
                <a:srgbClr val="000000"/>
              </a:solidFill>
              <a:latin typeface="Calibri"/>
            </a:endParaRPr>
          </a:p>
        </p:txBody>
      </p:sp>
      <p:sp>
        <p:nvSpPr>
          <p:cNvPr id="615" name=""/>
          <p:cNvSpPr txBox="1"/>
          <p:nvPr/>
        </p:nvSpPr>
        <p:spPr>
          <a:xfrm>
            <a:off x="457200" y="1600200"/>
            <a:ext cx="8229600" cy="4191120"/>
          </a:xfrm>
          <a:prstGeom prst="rect">
            <a:avLst/>
          </a:prstGeom>
          <a:noFill/>
          <a:ln w="0">
            <a:noFill/>
          </a:ln>
        </p:spPr>
        <p:txBody>
          <a:bodyPr anchor="t">
            <a:normAutofit/>
          </a:bodyPr>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note la medida en los formularios de recogida de muestras y de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Calcule el área marcada por la cinta adhesiva y anótela en los formularios de recogida de muestras y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En algunos casos, será necesario convertir las pulgadas en pies. Para facilitar estos cálculos, las medidas deben convertirse siempre de fracciones a decimales (por ejemplo, 0.5 en vez de 1/2). </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Consulte con el laboratorio analítico en lo que se refiere a requisitos de anotación adicion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7: Limpieza</a:t>
            </a:r>
            <a:endParaRPr b="0" lang="en-US" sz="3600" spc="-1" strike="noStrike">
              <a:solidFill>
                <a:srgbClr val="000000"/>
              </a:solidFill>
              <a:latin typeface="Calibri"/>
            </a:endParaRPr>
          </a:p>
        </p:txBody>
      </p:sp>
      <p:sp>
        <p:nvSpPr>
          <p:cNvPr id="617" name=""/>
          <p:cNvSpPr txBox="1"/>
          <p:nvPr/>
        </p:nvSpPr>
        <p:spPr>
          <a:xfrm>
            <a:off x="304920" y="1599840"/>
            <a:ext cx="8686800" cy="480060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impie la plantilla con un paño de muestreo limpio; coloque la plantilla en una bolsa plástica para guardar objeto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Retire los materiales de la obra: </a:t>
            </a:r>
            <a:endParaRPr b="0" lang="en-US" sz="24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Guantes, cinta adhesiva de pisos y ventanas, cubrezapatos usados;</a:t>
            </a:r>
            <a:endParaRPr b="0" lang="en-US" sz="20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Ponga los artículos en una bolsa plástica, </a:t>
            </a:r>
            <a:r>
              <a:rPr b="1" lang="es-ES" sz="2000" spc="-1" strike="noStrike">
                <a:solidFill>
                  <a:srgbClr val="000000"/>
                </a:solidFill>
                <a:latin typeface="Arial"/>
                <a:ea typeface="Lucida Sans Unicode"/>
              </a:rPr>
              <a:t>NO</a:t>
            </a:r>
            <a:r>
              <a:rPr b="0" lang="es-ES" sz="2000" spc="-1" strike="noStrike">
                <a:solidFill>
                  <a:srgbClr val="000000"/>
                </a:solidFill>
                <a:latin typeface="Arial"/>
                <a:ea typeface="Lucida Sans Unicode"/>
              </a:rPr>
              <a:t> en los recipientes del cliente.</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impie la ropa y quítese los cubrezapatos antes de salir del área de trabajo.  </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ímpiese la cara y las manos con agua jabonosa templada;</a:t>
            </a:r>
            <a:endParaRPr b="0" lang="en-US" sz="24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Use paños sanitarios si no tiene acceso a agua templada jabonos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Actividad práctica: Probemos.</a:t>
            </a:r>
            <a:endParaRPr b="0" lang="en-US" sz="3600" spc="-1" strike="noStrike">
              <a:solidFill>
                <a:srgbClr val="000000"/>
              </a:solidFill>
              <a:latin typeface="Calibri"/>
            </a:endParaRPr>
          </a:p>
        </p:txBody>
      </p:sp>
      <p:sp>
        <p:nvSpPr>
          <p:cNvPr id="619" name=""/>
          <p:cNvSpPr txBox="1"/>
          <p:nvPr/>
        </p:nvSpPr>
        <p:spPr>
          <a:xfrm>
            <a:off x="457200" y="1295280"/>
            <a:ext cx="8305920" cy="472464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hora vamos a practicar cómo tomar muestras de polvo usando un paño.</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ada individuo debe demostrar pericia en esta tarea.</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Siga las instrucciones de su instructor para tomar muestras.</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Puede consultar su </a:t>
            </a:r>
            <a:r>
              <a:rPr b="0" i="1" lang="es-ES" sz="2800" spc="-1" strike="noStrike">
                <a:solidFill>
                  <a:srgbClr val="000000"/>
                </a:solidFill>
                <a:latin typeface="Arial"/>
                <a:ea typeface="Lucida Sans Unicode"/>
              </a:rPr>
              <a:t>Guía de campo</a:t>
            </a:r>
            <a:r>
              <a:rPr b="0" lang="es-ES" sz="2800" spc="-1" strike="noStrike">
                <a:solidFill>
                  <a:srgbClr val="000000"/>
                </a:solidFill>
                <a:latin typeface="Arial"/>
                <a:ea typeface="Lucida Sans Unicode"/>
              </a:rPr>
              <a:t>  </a:t>
            </a:r>
            <a:endParaRPr b="0" lang="en-US" sz="28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	</a:t>
            </a:r>
            <a:r>
              <a:rPr b="0" lang="es-ES" sz="2800" spc="-1" strike="noStrike">
                <a:solidFill>
                  <a:srgbClr val="000000"/>
                </a:solidFill>
                <a:latin typeface="Arial"/>
                <a:ea typeface="Lucida Sans Unicode"/>
              </a:rPr>
              <a:t>o el </a:t>
            </a:r>
            <a:r>
              <a:rPr b="1" lang="es-ES" sz="2800" spc="-1" strike="noStrike">
                <a:solidFill>
                  <a:srgbClr val="000000"/>
                </a:solidFill>
                <a:latin typeface="Arial"/>
                <a:ea typeface="Lucida Sans Unicode"/>
              </a:rPr>
              <a:t>Anexo 3-D</a:t>
            </a:r>
            <a:r>
              <a:rPr b="0" lang="es-ES" sz="2800" spc="-1" strike="noStrike">
                <a:solidFill>
                  <a:srgbClr val="000000"/>
                </a:solidFill>
                <a:latin typeface="Arial"/>
                <a:ea typeface="Lucida Sans Unicode"/>
              </a:rPr>
              <a:t> para obtener una lista</a:t>
            </a:r>
            <a:endParaRPr b="0" lang="en-US" sz="28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	</a:t>
            </a:r>
            <a:r>
              <a:rPr b="0" lang="es-ES" sz="2800" spc="-1" strike="noStrike">
                <a:solidFill>
                  <a:srgbClr val="000000"/>
                </a:solidFill>
                <a:latin typeface="Arial"/>
                <a:ea typeface="Lucida Sans Unicode"/>
              </a:rPr>
              <a:t>de pasos clave.</a:t>
            </a:r>
            <a:endParaRPr b="0" lang="en-US" sz="2800" spc="-1" strike="noStrike">
              <a:solidFill>
                <a:srgbClr val="000000"/>
              </a:solidFill>
              <a:latin typeface="Calibri"/>
            </a:endParaRPr>
          </a:p>
        </p:txBody>
      </p:sp>
      <p:graphicFrame>
        <p:nvGraphicFramePr>
          <p:cNvPr id="620" name="Object 5"/>
          <p:cNvGraphicFramePr/>
          <p:nvPr/>
        </p:nvGraphicFramePr>
        <p:xfrm>
          <a:off x="7175520" y="3987720"/>
          <a:ext cx="1155600" cy="1219320"/>
        </p:xfrm>
        <a:graphic>
          <a:graphicData uri="http://schemas.openxmlformats.org/presentationml/2006/ole">
            <p:oleObj r:id="rId1" spid="">
              <p:embed/>
              <p:pic>
                <p:nvPicPr>
                  <p:cNvPr id="621" name="Object 5" descr=""/>
                  <p:cNvPicPr/>
                  <p:nvPr/>
                </p:nvPicPr>
                <p:blipFill>
                  <a:blip r:embed="rId2"/>
                  <a:stretch/>
                </p:blipFill>
                <p:spPr>
                  <a:xfrm>
                    <a:off x="7175520" y="3987720"/>
                    <a:ext cx="11556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Cómo evitar errores comunes</a:t>
            </a:r>
            <a:endParaRPr b="0" lang="en-US" sz="3600" spc="-1" strike="noStrike">
              <a:solidFill>
                <a:srgbClr val="000000"/>
              </a:solidFill>
              <a:latin typeface="Calibri"/>
            </a:endParaRPr>
          </a:p>
        </p:txBody>
      </p:sp>
      <p:sp>
        <p:nvSpPr>
          <p:cNvPr id="623" name=""/>
          <p:cNvSpPr txBox="1"/>
          <p:nvPr/>
        </p:nvSpPr>
        <p:spPr>
          <a:xfrm>
            <a:off x="914400" y="1676520"/>
            <a:ext cx="7772400" cy="3962160"/>
          </a:xfrm>
          <a:prstGeom prst="rect">
            <a:avLst/>
          </a:prstGeom>
          <a:noFill/>
          <a:ln w="0">
            <a:noFill/>
          </a:ln>
        </p:spPr>
        <p:txBody>
          <a:bodyPr anchor="t">
            <a:normAutofit/>
          </a:bodyPr>
          <a:p>
            <a:pPr marL="347760" indent="-347760">
              <a:lnSpc>
                <a:spcPct val="90000"/>
              </a:lnSpc>
              <a:spcBef>
                <a:spcPts val="1199"/>
              </a:spcBef>
              <a:buClr>
                <a:srgbClr val="000000"/>
              </a:buClr>
              <a:buFont typeface="Garamond"/>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Estos errores comunes pueden dar resultados incorrectos:</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Medición incorrecta;</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Paño contaminado;</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Guantes contaminados;</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Área de muestreo alterada;</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Anotación defectu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uestreo de polvo compuesto usando un paño</a:t>
            </a:r>
            <a:endParaRPr b="0" lang="en-US" sz="3600" spc="-1" strike="noStrike">
              <a:solidFill>
                <a:srgbClr val="000000"/>
              </a:solidFill>
              <a:latin typeface="Calibri"/>
            </a:endParaRPr>
          </a:p>
        </p:txBody>
      </p:sp>
      <p:sp>
        <p:nvSpPr>
          <p:cNvPr id="625" name=""/>
          <p:cNvSpPr txBox="1"/>
          <p:nvPr/>
        </p:nvSpPr>
        <p:spPr>
          <a:xfrm>
            <a:off x="457200" y="1752120"/>
            <a:ext cx="8229600" cy="3962520"/>
          </a:xfrm>
          <a:prstGeom prst="rect">
            <a:avLst/>
          </a:prstGeom>
          <a:noFill/>
          <a:ln w="0">
            <a:noFill/>
          </a:ln>
        </p:spPr>
        <p:txBody>
          <a:bodyPr anchor="t">
            <a:normAutofit fontScale="97000"/>
          </a:bodyPr>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n el muestreo compuesto, se deben recoger muestras de componentes comunes en diferentes habitaciones y analizarse como si fueran una.</a:t>
            </a:r>
            <a:endParaRPr b="0" lang="en-US" sz="2400" spc="-1" strike="noStrike">
              <a:solidFill>
                <a:srgbClr val="000000"/>
              </a:solidFill>
              <a:latin typeface="Calibri"/>
            </a:endParaRPr>
          </a:p>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uede recibir una solicitud para tomar una muestra compuesta durante las pruebas de aprobación de polvo con plomo.</a:t>
            </a:r>
            <a:endParaRPr b="0" lang="en-US" sz="2400" spc="-1" strike="noStrike">
              <a:solidFill>
                <a:srgbClr val="000000"/>
              </a:solidFill>
              <a:latin typeface="Calibri"/>
            </a:endParaRPr>
          </a:p>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laboratorios analíticos con frecuencia tienen dificultades para procesar muestras compuestas. Póngase en contacto con su laboratorio antes de tomar muestras compues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3600" spc="-1" strike="noStrike">
                <a:solidFill>
                  <a:srgbClr val="3333cc"/>
                </a:solidFill>
                <a:latin typeface="Arial"/>
                <a:ea typeface="Lucida Sans Unicode"/>
              </a:rPr>
              <a:t>Reglas para una muestra compuesta</a:t>
            </a:r>
            <a:endParaRPr b="0" lang="en-US" sz="3600" spc="-1" strike="noStrike">
              <a:solidFill>
                <a:srgbClr val="000000"/>
              </a:solidFill>
              <a:latin typeface="Calibri"/>
            </a:endParaRPr>
          </a:p>
        </p:txBody>
      </p:sp>
      <p:sp>
        <p:nvSpPr>
          <p:cNvPr id="627" name=""/>
          <p:cNvSpPr txBox="1"/>
          <p:nvPr/>
        </p:nvSpPr>
        <p:spPr>
          <a:xfrm>
            <a:off x="533520" y="1676520"/>
            <a:ext cx="8229600" cy="40384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la cantidad promedio de polvo con plomo en varias superficies (hasta 4) del mismo tipo:</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El recipiente de muestras contiene un máximo de 4 paños para el polvo;</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No use más de 4 pañ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No mezcle muestras de distintos tipos de superficies;</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Tome una muestra de áreas iguales con cada paño, y use plantillas donde sea posible.</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Antepechos interiores o canales: use el antepecho o el canal más pequeño para fijar el áre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Estrategia de muestreo</a:t>
            </a:r>
            <a:endParaRPr b="0" lang="en-US" sz="3600" spc="-1" strike="noStrike">
              <a:solidFill>
                <a:srgbClr val="000000"/>
              </a:solidFill>
              <a:latin typeface="Calibri"/>
            </a:endParaRPr>
          </a:p>
        </p:txBody>
      </p:sp>
      <p:sp>
        <p:nvSpPr>
          <p:cNvPr id="546" name=""/>
          <p:cNvSpPr txBox="1"/>
          <p:nvPr/>
        </p:nvSpPr>
        <p:spPr>
          <a:xfrm>
            <a:off x="457200" y="1447560"/>
            <a:ext cx="8686800" cy="480060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ebe esperar al menos 1 hora después de completar la limpieza final y pasar la inspección visual antes de recoger muestras para dejar tiempo para que se deposite el polvo del aire sobre las superficies.</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l escoger ubicaciones de muestreo, identifique áreas donde se haya generado más polvo durante el trabajo.</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iempre que sea posible tome muestras de pisos duros, no de alfombras.  </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segúrese de seguir los requisitos de muestreo de las diapositivas siguientes o la Guía de campo para seleccionar sus ubicaciones de muestreo final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3600" spc="-1" strike="noStrike">
                <a:solidFill>
                  <a:srgbClr val="3333cc"/>
                </a:solidFill>
                <a:latin typeface="Arial"/>
                <a:ea typeface="Lucida Sans Unicode"/>
              </a:rPr>
              <a:t>Procedimientos de muestreo compuesto</a:t>
            </a:r>
            <a:endParaRPr b="0" lang="en-US" sz="3600" spc="-1" strike="noStrike">
              <a:solidFill>
                <a:srgbClr val="000000"/>
              </a:solidFill>
              <a:latin typeface="Calibri"/>
            </a:endParaRPr>
          </a:p>
        </p:txBody>
      </p:sp>
      <p:sp>
        <p:nvSpPr>
          <p:cNvPr id="629" name=""/>
          <p:cNvSpPr txBox="1"/>
          <p:nvPr/>
        </p:nvSpPr>
        <p:spPr>
          <a:xfrm>
            <a:off x="457200" y="1752480"/>
            <a:ext cx="8229600" cy="422136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arque todas las áreas por donde pasar un paño para una muestra compuesta antes de recogerla.</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Use un paño nuevo por cada muestra secundaria.</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Siga los procedimientos de muestreo para paños individuales.</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Use un formulario de cadena de custodia por cada muestra compuesta.  </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es necesario cambiar de guantes entre muestras secundari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Higiene apropiada después de completar un trabajo de muestreo</a:t>
            </a:r>
            <a:endParaRPr b="0" lang="en-US" sz="3200" spc="-1" strike="noStrike">
              <a:solidFill>
                <a:srgbClr val="000000"/>
              </a:solidFill>
              <a:latin typeface="Calibri"/>
            </a:endParaRPr>
          </a:p>
        </p:txBody>
      </p:sp>
      <p:sp>
        <p:nvSpPr>
          <p:cNvPr id="631" name=""/>
          <p:cNvSpPr txBox="1"/>
          <p:nvPr/>
        </p:nvSpPr>
        <p:spPr>
          <a:xfrm>
            <a:off x="990720" y="1981080"/>
            <a:ext cx="7696080" cy="3733920"/>
          </a:xfrm>
          <a:prstGeom prst="rect">
            <a:avLst/>
          </a:prstGeom>
          <a:noFill/>
          <a:ln w="0">
            <a:noFill/>
          </a:ln>
        </p:spPr>
        <p:txBody>
          <a:bodyPr anchor="t">
            <a:normAutofit/>
          </a:bodyPr>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Lavado de manos.</a:t>
            </a:r>
            <a:endParaRPr b="0" lang="en-US" sz="3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Lavado de la cara.</a:t>
            </a:r>
            <a:endParaRPr b="0" lang="en-US" sz="3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Revise la ropa y los zapatos (especialmente suelas) antes de salir de la ob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04920"/>
            <a:ext cx="9144000" cy="1295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Ubicaciones de muestreo de polvo con plomo usando un paño: Regla RRP de la EPA</a:t>
            </a:r>
            <a:endParaRPr b="0" lang="en-US" sz="3200" spc="-1" strike="noStrike">
              <a:solidFill>
                <a:srgbClr val="000000"/>
              </a:solidFill>
              <a:latin typeface="Calibri"/>
            </a:endParaRPr>
          </a:p>
        </p:txBody>
      </p:sp>
      <p:sp>
        <p:nvSpPr>
          <p:cNvPr id="548"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601"/>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Si hay más de 1 habitación, pasillo o escalera dentro del área de trabajo, tome:</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1 muestra de un </a:t>
            </a:r>
            <a:r>
              <a:rPr b="0" lang="es-ES" sz="1800" spc="-1" strike="noStrike">
                <a:solidFill>
                  <a:srgbClr val="000000"/>
                </a:solidFill>
                <a:latin typeface="Arial"/>
                <a:ea typeface="Times New Roman"/>
              </a:rPr>
              <a:t>antepecho </a:t>
            </a:r>
            <a:r>
              <a:rPr b="0" lang="es-ES" sz="1800" spc="-1" strike="noStrike">
                <a:solidFill>
                  <a:srgbClr val="000000"/>
                </a:solidFill>
                <a:latin typeface="Arial"/>
                <a:ea typeface="Times New Roman"/>
              </a:rPr>
              <a:t>de ventana y 1 muestra de un piso dentro de cada habitación, pasillo o escalera (no es necesario muestrear más de 4 habitaciones, pasillos o escaleras);</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Si no se cerraron ni se cubrieron de plástico las ventanas durante la renovación, tome también 1 muestra de canal de ventana de cada habitación, pasillo o escalera (no es necesario muestrear más de 4);</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1 muestra del piso adyacente al área de trabajo, pero no en un área que se haya limpiado.</a:t>
            </a:r>
            <a:endParaRPr b="0" lang="en-US" sz="1800" spc="-1" strike="noStrike">
              <a:solidFill>
                <a:srgbClr val="000000"/>
              </a:solidFill>
              <a:latin typeface="Calibri"/>
            </a:endParaRPr>
          </a:p>
          <a:p>
            <a:pPr marL="339840" indent="-339840">
              <a:lnSpc>
                <a:spcPct val="100000"/>
              </a:lnSpc>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Para viviendas con ayuda federal, tome estas muestras si el área de trabajo está contenida, o de lo contrario, apruebe toda la unidad, según se trató en la dispositiva anteri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274680"/>
            <a:ext cx="9144000" cy="1325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Ubicaciones de muestreo de polvo con plomo usando un paño: Regla RRP de la EPA (cont.)</a:t>
            </a:r>
            <a:endParaRPr b="0" lang="en-US" sz="3200" spc="-1" strike="noStrike">
              <a:solidFill>
                <a:srgbClr val="000000"/>
              </a:solidFill>
              <a:latin typeface="Calibri"/>
            </a:endParaRPr>
          </a:p>
        </p:txBody>
      </p:sp>
      <p:sp>
        <p:nvSpPr>
          <p:cNvPr id="550" name=""/>
          <p:cNvSpPr txBox="1"/>
          <p:nvPr/>
        </p:nvSpPr>
        <p:spPr>
          <a:xfrm>
            <a:off x="533520" y="1828440"/>
            <a:ext cx="8229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el área de trabajo es una habitación, pasillo o escalera individuales, o un área más pequeña, tome:  </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 antepecho de ventana y 1 muestra del piso;</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no se cerraron ni se cubrieron las ventanas con plástico durante la renovación, tome también 1 muestra de canal de ventana;</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l piso adyacente al área de trabajo, pero no en un área que se haya limpiad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Aprobación del HUD </a:t>
            </a:r>
            <a:endParaRPr b="0" lang="en-US" sz="3600" spc="-1" strike="noStrike">
              <a:solidFill>
                <a:srgbClr val="000000"/>
              </a:solidFill>
              <a:latin typeface="Calibri"/>
            </a:endParaRPr>
          </a:p>
        </p:txBody>
      </p:sp>
      <p:sp>
        <p:nvSpPr>
          <p:cNvPr id="552" name="PlaceHolder 2"/>
          <p:cNvSpPr>
            <a:spLocks noGrp="1"/>
          </p:cNvSpPr>
          <p:nvPr>
            <p:ph/>
          </p:nvPr>
        </p:nvSpPr>
        <p:spPr>
          <a:xfrm>
            <a:off x="457200" y="1447560"/>
            <a:ext cx="86868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El HUD no permite efectuar la aprobación en una sola área de trabajo que </a:t>
            </a:r>
            <a:r>
              <a:rPr b="0" lang="es-ES" sz="2200" spc="-1" strike="noStrike" u="sng">
                <a:solidFill>
                  <a:srgbClr val="000000"/>
                </a:solidFill>
                <a:uFillTx/>
                <a:latin typeface="Arial"/>
                <a:ea typeface="Lucida Sans Unicode"/>
              </a:rPr>
              <a:t>no</a:t>
            </a:r>
            <a:r>
              <a:rPr b="0" lang="es-ES" sz="2200" spc="-1" strike="noStrike">
                <a:solidFill>
                  <a:srgbClr val="000000"/>
                </a:solidFill>
                <a:latin typeface="Arial"/>
                <a:ea typeface="Lucida Sans Unicode"/>
              </a:rPr>
              <a:t> haya sido contenida de forma adecuada.</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La aprobación del HUD puede hacerse de varias manera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de toda la unidad en la mayoría de los caso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en la obra solamente en algunos caso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para trabajo interior cuando se use contención.</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El técnico de muestreo de polvo con plomo debe hablar de la estrategia de muestreo con el renovador antes de empezar a trabajar.</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Consulte el Apéndice de muestreo del HUD y un ejercicio de muestreo opcional del HUD para obtener descripciones detalladas de las estrategias de muestreo del HU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Lucida Sans Unicode"/>
              </a:rPr>
              <a:t>Actividad: Dónde tomar muestras</a:t>
            </a:r>
            <a:endParaRPr b="0" lang="en-US" sz="3200" spc="-1" strike="noStrike">
              <a:solidFill>
                <a:srgbClr val="000000"/>
              </a:solidFill>
              <a:latin typeface="Calibri"/>
            </a:endParaRPr>
          </a:p>
        </p:txBody>
      </p:sp>
      <p:sp>
        <p:nvSpPr>
          <p:cNvPr id="554" name=""/>
          <p:cNvSpPr txBox="1"/>
          <p:nvPr/>
        </p:nvSpPr>
        <p:spPr>
          <a:xfrm>
            <a:off x="456840" y="1600200"/>
            <a:ext cx="7924680" cy="403848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 a practicar las estrategias del área de muestreo.</a:t>
            </a:r>
            <a:endParaRPr b="0" lang="en-US" sz="2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instructor le proporcionará una situación y un diagrama de renovación hipotéticos.</a:t>
            </a:r>
            <a:endParaRPr b="0" lang="en-US" sz="2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 la situación y marque las ubicaciones de dónde cree que se deben tomar muestras de polvo usando un pañ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3505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Recuerde...</a:t>
            </a:r>
            <a:endParaRPr b="0" lang="en-US" sz="3600" spc="-1" strike="noStrike">
              <a:solidFill>
                <a:srgbClr val="000000"/>
              </a:solidFill>
              <a:latin typeface="Calibri"/>
            </a:endParaRPr>
          </a:p>
        </p:txBody>
      </p:sp>
      <p:sp>
        <p:nvSpPr>
          <p:cNvPr id="556" name=""/>
          <p:cNvSpPr txBox="1"/>
          <p:nvPr/>
        </p:nvSpPr>
        <p:spPr>
          <a:xfrm>
            <a:off x="53352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Use una estrategia para establecer el área de muestreo para incluir las áreas donde se produjeron las máximas tareas de generación de polvo durante el trabajo.  </a:t>
            </a:r>
            <a:endParaRPr b="0" lang="en-US" sz="3000" spc="-1" strike="noStrike">
              <a:solidFill>
                <a:srgbClr val="000000"/>
              </a:solidFill>
              <a:latin typeface="Calibri"/>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ulte la </a:t>
            </a:r>
            <a:r>
              <a:rPr b="0" i="1" lang="es-ES" sz="3000" spc="-1" strike="noStrike">
                <a:solidFill>
                  <a:srgbClr val="000000"/>
                </a:solidFill>
                <a:latin typeface="Arial"/>
              </a:rPr>
              <a:t>Guía de campo </a:t>
            </a:r>
            <a:r>
              <a:rPr b="0" lang="es-ES" sz="3000" spc="-1" strike="noStrike">
                <a:solidFill>
                  <a:srgbClr val="000000"/>
                </a:solidFill>
                <a:latin typeface="Arial"/>
              </a:rPr>
              <a:t>o el Capítulo 3 para determinar los lugares apropiados para tomar sus muestras.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Anya Reed</dc:creator>
  <dc:description/>
  <dc:language>en-US</dc:language>
  <cp:lastModifiedBy>eddyj</cp:lastModifiedBy>
  <dcterms:modified xsi:type="dcterms:W3CDTF">2014-01-09T13:21:45Z</dcterms:modified>
  <cp:revision>3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